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ECA-1F8E-4BC8-B98C-F2F39C89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525-31DA-4157-87EB-BEE5B5BE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DBE-A5ED-4264-92E8-ACEDD147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0D3E-0F40-4DD3-A791-28634B68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28BD-2A60-44AA-BE6F-950E5693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8C0-B48E-4077-8516-4DF3D249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CF86-CE48-47D7-AE24-8CF14C9E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2D9-5BB1-40FA-B936-FDB12BD4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14C-5A0C-4FB1-B092-08522A93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D516-A235-45C1-83BD-A819A16B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850-F13F-44A7-A1D9-1B0A8411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8875-D65B-451B-B77D-7224C00D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E177-3788-4D9A-9741-48105582E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plete Maps of Werewolves In Lon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 Wai K L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symbols information and colours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5909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2193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own, Park and J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47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49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1676520" y="3733560"/>
            <a:ext cx="533160" cy="457560"/>
            <a:chOff x="1676520" y="3733560"/>
            <a:chExt cx="533160" cy="457560"/>
          </a:xfrm>
        </p:grpSpPr>
        <p:sp>
          <p:nvSpPr>
            <p:cNvPr id="52" name=""/>
            <p:cNvSpPr/>
            <p:nvPr/>
          </p:nvSpPr>
          <p:spPr>
            <a:xfrm>
              <a:off x="1676520" y="3886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057040" y="373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676520" y="4495680"/>
            <a:ext cx="533160" cy="304920"/>
            <a:chOff x="1676520" y="4495680"/>
            <a:chExt cx="533160" cy="304920"/>
          </a:xfrm>
        </p:grpSpPr>
        <p:sp>
          <p:nvSpPr>
            <p:cNvPr id="55" name=""/>
            <p:cNvSpPr/>
            <p:nvPr/>
          </p:nvSpPr>
          <p:spPr>
            <a:xfrm>
              <a:off x="1676520" y="44956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2480" y="4648320"/>
              <a:ext cx="75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676520" y="51055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57913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040" y="3124080"/>
            <a:ext cx="403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th outside of Underground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50800" y="3733920"/>
            <a:ext cx="6401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opened door, that takes you to roof. If two location have links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ou can run and jump to other building (if you are wolf but not human!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54760" y="4495680"/>
            <a:ext cx="620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gap metal, you need a cork screwdriver to open and enter i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4760" y="5105520"/>
            <a:ext cx="483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item found, and you can pick for purpos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52960" y="5715000"/>
            <a:ext cx="5244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First Aid item, that help you to stop bleep fr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e police shoot at you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65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67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838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4382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4382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057400"/>
            <a:ext cx="91440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9051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54400" y="2209680"/>
            <a:ext cx="6314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ll repeat while you walking across. This called LOOP locations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915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219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5335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838080"/>
            <a:ext cx="990720" cy="4648320"/>
          </a:xfrm>
          <a:prstGeom prst="line">
            <a:avLst/>
          </a:prstGeom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12372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4648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3580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867280" y="43430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6553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5053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733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733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201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35268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18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772400" y="3581280"/>
            <a:ext cx="533520" cy="457200"/>
            <a:chOff x="7772400" y="3581280"/>
            <a:chExt cx="533520" cy="457200"/>
          </a:xfrm>
        </p:grpSpPr>
        <p:sp>
          <p:nvSpPr>
            <p:cNvPr id="104" name=""/>
            <p:cNvSpPr/>
            <p:nvPr/>
          </p:nvSpPr>
          <p:spPr>
            <a:xfrm>
              <a:off x="7772400" y="3733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22960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8720" y="3886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85345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10480" y="3429000"/>
            <a:ext cx="228600" cy="152280"/>
            <a:chOff x="8610480" y="3429000"/>
            <a:chExt cx="228600" cy="152280"/>
          </a:xfrm>
        </p:grpSpPr>
        <p:sp>
          <p:nvSpPr>
            <p:cNvPr id="109" name=""/>
            <p:cNvSpPr/>
            <p:nvPr/>
          </p:nvSpPr>
          <p:spPr>
            <a:xfrm>
              <a:off x="864216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10480" y="3504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76201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345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229600" y="3047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296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2971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098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2971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343400" y="2209680"/>
            <a:ext cx="533520" cy="304920"/>
            <a:chOff x="4343400" y="2209680"/>
            <a:chExt cx="533520" cy="304920"/>
          </a:xfrm>
        </p:grpSpPr>
        <p:sp>
          <p:nvSpPr>
            <p:cNvPr id="126" name=""/>
            <p:cNvSpPr/>
            <p:nvPr/>
          </p:nvSpPr>
          <p:spPr>
            <a:xfrm>
              <a:off x="4343400" y="22096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0" y="2286000"/>
              <a:ext cx="228600" cy="152280"/>
              <a:chOff x="4572000" y="2286000"/>
              <a:chExt cx="228600" cy="152280"/>
            </a:xfrm>
          </p:grpSpPr>
          <p:sp>
            <p:nvSpPr>
              <p:cNvPr id="128" name=""/>
              <p:cNvSpPr/>
              <p:nvPr/>
            </p:nvSpPr>
            <p:spPr>
              <a:xfrm>
                <a:off x="4603680" y="2286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000" y="2361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5029200" y="2209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2743200"/>
            <a:ext cx="129564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97180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6920" y="3124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3848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362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124080" y="18288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828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733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114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876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257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5257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638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638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6019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6400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6553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6019920"/>
            <a:ext cx="114300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33920" y="4876920"/>
            <a:ext cx="533160" cy="304560"/>
            <a:chOff x="3733920" y="4876920"/>
            <a:chExt cx="533160" cy="304560"/>
          </a:xfrm>
        </p:grpSpPr>
        <p:sp>
          <p:nvSpPr>
            <p:cNvPr id="168" name=""/>
            <p:cNvSpPr/>
            <p:nvPr/>
          </p:nvSpPr>
          <p:spPr>
            <a:xfrm>
              <a:off x="3733920" y="4876920"/>
              <a:ext cx="53316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190760" y="4952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9880" y="5029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276720" y="487692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352680" y="5334120"/>
            <a:ext cx="228600" cy="152280"/>
            <a:chOff x="3352680" y="5334120"/>
            <a:chExt cx="228600" cy="152280"/>
          </a:xfrm>
        </p:grpSpPr>
        <p:sp>
          <p:nvSpPr>
            <p:cNvPr id="173" name=""/>
            <p:cNvSpPr/>
            <p:nvPr/>
          </p:nvSpPr>
          <p:spPr>
            <a:xfrm>
              <a:off x="3384360" y="5334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541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666880" y="5257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87692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49568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43200" y="46483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514240" y="4572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680" y="22096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480" y="40384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5320" y="55627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5867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6477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5780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6019920"/>
            <a:ext cx="5335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6386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58672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63244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410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7240" y="5410080"/>
            <a:ext cx="625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5867280"/>
            <a:ext cx="531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6520" y="6324480"/>
            <a:ext cx="446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38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65760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876920" y="1143000"/>
            <a:ext cx="228600" cy="152280"/>
            <a:chOff x="4876920" y="1143000"/>
            <a:chExt cx="228600" cy="152280"/>
          </a:xfrm>
        </p:grpSpPr>
        <p:sp>
          <p:nvSpPr>
            <p:cNvPr id="208" name=""/>
            <p:cNvSpPr/>
            <p:nvPr/>
          </p:nvSpPr>
          <p:spPr>
            <a:xfrm>
              <a:off x="4908600" y="1143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6920" y="121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57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68580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1066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1447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543800" y="1447920"/>
            <a:ext cx="533520" cy="304560"/>
            <a:chOff x="7543800" y="1447920"/>
            <a:chExt cx="533520" cy="304560"/>
          </a:xfrm>
        </p:grpSpPr>
        <p:sp>
          <p:nvSpPr>
            <p:cNvPr id="216" name=""/>
            <p:cNvSpPr/>
            <p:nvPr/>
          </p:nvSpPr>
          <p:spPr>
            <a:xfrm>
              <a:off x="7543800" y="1447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00100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0120" y="160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1219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09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219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838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742840" y="121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526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685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09680" y="380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838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3808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8487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380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47920" y="685800"/>
            <a:ext cx="380880" cy="685800"/>
            <a:chOff x="1447920" y="685800"/>
            <a:chExt cx="380880" cy="685800"/>
          </a:xfrm>
        </p:grpSpPr>
        <p:sp>
          <p:nvSpPr>
            <p:cNvPr id="237" name=""/>
            <p:cNvSpPr/>
            <p:nvPr/>
          </p:nvSpPr>
          <p:spPr>
            <a:xfrm>
              <a:off x="1447920" y="685800"/>
              <a:ext cx="3808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523880" y="1143000"/>
              <a:ext cx="228600" cy="152280"/>
              <a:chOff x="1523880" y="1143000"/>
              <a:chExt cx="228600" cy="152280"/>
            </a:xfrm>
          </p:grpSpPr>
          <p:sp>
            <p:nvSpPr>
              <p:cNvPr id="239" name=""/>
              <p:cNvSpPr/>
              <p:nvPr/>
            </p:nvSpPr>
            <p:spPr>
              <a:xfrm>
                <a:off x="1555560" y="1143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23880" y="1218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381600" y="5335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800" y="68580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47960" y="533520"/>
            <a:ext cx="1752840" cy="304560"/>
            <a:chOff x="4647960" y="533520"/>
            <a:chExt cx="1752840" cy="304560"/>
          </a:xfrm>
        </p:grpSpPr>
        <p:sp>
          <p:nvSpPr>
            <p:cNvPr id="244" name=""/>
            <p:cNvSpPr/>
            <p:nvPr/>
          </p:nvSpPr>
          <p:spPr>
            <a:xfrm>
              <a:off x="640080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6479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64832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8320" y="533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481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14640" y="228600"/>
            <a:ext cx="1905480" cy="990720"/>
            <a:chOff x="5714640" y="228600"/>
            <a:chExt cx="1905480" cy="990720"/>
          </a:xfrm>
        </p:grpSpPr>
        <p:sp>
          <p:nvSpPr>
            <p:cNvPr id="250" name=""/>
            <p:cNvSpPr/>
            <p:nvPr/>
          </p:nvSpPr>
          <p:spPr>
            <a:xfrm flipH="1">
              <a:off x="5714640" y="838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22860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2860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467480" y="1219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620120" y="22860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 flipV="1">
            <a:off x="33526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384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609480" y="914400"/>
            <a:ext cx="3200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2057040" y="2743200"/>
            <a:ext cx="21337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09480" y="2742840"/>
            <a:ext cx="1774080" cy="838440"/>
            <a:chOff x="609480" y="2742840"/>
            <a:chExt cx="1774080" cy="838440"/>
          </a:xfrm>
        </p:grpSpPr>
        <p:sp>
          <p:nvSpPr>
            <p:cNvPr id="261" name=""/>
            <p:cNvSpPr/>
            <p:nvPr/>
          </p:nvSpPr>
          <p:spPr>
            <a:xfrm>
              <a:off x="762120" y="30481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990720" y="2743200"/>
              <a:ext cx="533160" cy="457200"/>
              <a:chOff x="990720" y="2743200"/>
              <a:chExt cx="533160" cy="457200"/>
            </a:xfrm>
          </p:grpSpPr>
          <p:sp>
            <p:nvSpPr>
              <p:cNvPr id="263" name=""/>
              <p:cNvSpPr/>
              <p:nvPr/>
            </p:nvSpPr>
            <p:spPr>
              <a:xfrm>
                <a:off x="990720" y="2895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44756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66680" y="30481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600200" y="2742840"/>
              <a:ext cx="533520" cy="457560"/>
              <a:chOff x="1600200" y="2742840"/>
              <a:chExt cx="533520" cy="457560"/>
            </a:xfrm>
          </p:grpSpPr>
          <p:sp>
            <p:nvSpPr>
              <p:cNvPr id="267" name=""/>
              <p:cNvSpPr/>
              <p:nvPr/>
            </p:nvSpPr>
            <p:spPr>
              <a:xfrm>
                <a:off x="1600200" y="2895480"/>
                <a:ext cx="533520" cy="304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057400" y="2742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05120" y="3048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H="1">
              <a:off x="83772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990720" y="3276720"/>
              <a:ext cx="533160" cy="304560"/>
              <a:chOff x="990720" y="3276720"/>
              <a:chExt cx="533160" cy="304560"/>
            </a:xfrm>
          </p:grpSpPr>
          <p:sp>
            <p:nvSpPr>
              <p:cNvPr id="272" name=""/>
              <p:cNvSpPr/>
              <p:nvPr/>
            </p:nvSpPr>
            <p:spPr>
              <a:xfrm>
                <a:off x="990720" y="32767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447560" y="3352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66680" y="3429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289548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4792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792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2743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6880" y="3200400"/>
              <a:ext cx="706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20" y="49528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4800600"/>
            <a:ext cx="1295280" cy="304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5943600"/>
            <a:ext cx="4419360" cy="533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114800" y="837720"/>
            <a:ext cx="4572000" cy="1999080"/>
            <a:chOff x="4114800" y="837720"/>
            <a:chExt cx="4572000" cy="1999080"/>
          </a:xfrm>
        </p:grpSpPr>
        <p:sp>
          <p:nvSpPr>
            <p:cNvPr id="284" name=""/>
            <p:cNvSpPr/>
            <p:nvPr/>
          </p:nvSpPr>
          <p:spPr>
            <a:xfrm>
              <a:off x="426708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7080" y="2514600"/>
              <a:ext cx="42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952880" y="1523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15238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56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1480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10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0100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18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486400" y="1219320"/>
              <a:ext cx="2133720" cy="838080"/>
              <a:chOff x="5486400" y="1219320"/>
              <a:chExt cx="2133720" cy="8380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7086600" y="1600200"/>
                <a:ext cx="533520" cy="457200"/>
                <a:chOff x="7086600" y="1600200"/>
                <a:chExt cx="533520" cy="4572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086600" y="175284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7543800" y="16002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62920" y="190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6477120" y="1752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371600"/>
                <a:ext cx="304920" cy="6858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5486400" y="1219320"/>
                <a:ext cx="533520" cy="457200"/>
                <a:chOff x="5486400" y="1219320"/>
                <a:chExt cx="533520" cy="457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486400" y="137196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943600" y="1219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62720" y="1524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5943600" y="837720"/>
              <a:ext cx="1600200" cy="762120"/>
              <a:chOff x="5943600" y="837720"/>
              <a:chExt cx="1600200" cy="76212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5943600" y="837720"/>
                <a:ext cx="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543800" y="837720"/>
                <a:ext cx="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43600" y="838080"/>
                <a:ext cx="160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171840" y="2514600"/>
              <a:ext cx="1489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ecret of Zone 8!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57200" y="457200"/>
            <a:ext cx="3200400" cy="3063960"/>
            <a:chOff x="457200" y="457200"/>
            <a:chExt cx="3200400" cy="3063960"/>
          </a:xfrm>
        </p:grpSpPr>
        <p:sp>
          <p:nvSpPr>
            <p:cNvPr id="310" name=""/>
            <p:cNvSpPr/>
            <p:nvPr/>
          </p:nvSpPr>
          <p:spPr>
            <a:xfrm>
              <a:off x="2514600" y="1447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21337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200" y="1600200"/>
              <a:ext cx="30456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6160" y="19810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0" y="1981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0" y="1600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526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142640" y="914400"/>
              <a:ext cx="1905120" cy="838080"/>
              <a:chOff x="1142640" y="914400"/>
              <a:chExt cx="1905120" cy="8380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142640" y="914400"/>
                <a:ext cx="1905120" cy="838080"/>
                <a:chOff x="1142640" y="914400"/>
                <a:chExt cx="1905120" cy="83808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1142640" y="17524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1143000" y="914400"/>
                  <a:ext cx="0" cy="8380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143000" y="914400"/>
                  <a:ext cx="190476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47760" y="91440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819160" y="1371600"/>
                <a:ext cx="2282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600200" y="457200"/>
              <a:ext cx="1752120" cy="1295280"/>
              <a:chOff x="1600200" y="457200"/>
              <a:chExt cx="1752120" cy="1295280"/>
            </a:xfrm>
          </p:grpSpPr>
          <p:sp>
            <p:nvSpPr>
              <p:cNvPr id="326" name=""/>
              <p:cNvSpPr/>
              <p:nvPr/>
            </p:nvSpPr>
            <p:spPr>
              <a:xfrm>
                <a:off x="1600200" y="175248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90476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04760" y="457200"/>
                <a:ext cx="129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004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040" y="175248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61760" y="1371600"/>
              <a:ext cx="1981080" cy="304560"/>
              <a:chOff x="761760" y="1371600"/>
              <a:chExt cx="1981080" cy="3045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61760" y="1371600"/>
                <a:ext cx="22860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90360" y="1371600"/>
                <a:ext cx="175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286000" y="1219320"/>
              <a:ext cx="533160" cy="304560"/>
              <a:chOff x="2286000" y="1219320"/>
              <a:chExt cx="533160" cy="304560"/>
            </a:xfrm>
          </p:grpSpPr>
          <p:sp>
            <p:nvSpPr>
              <p:cNvPr id="335" name=""/>
              <p:cNvSpPr/>
              <p:nvPr/>
            </p:nvSpPr>
            <p:spPr>
              <a:xfrm>
                <a:off x="2286000" y="12193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2514240" y="1295280"/>
                <a:ext cx="228240" cy="151920"/>
                <a:chOff x="2514240" y="1295280"/>
                <a:chExt cx="228240" cy="1519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45560" y="1295280"/>
                  <a:ext cx="152280" cy="151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514240" y="137088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>
              <a:off x="457200" y="2286000"/>
              <a:ext cx="3124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6 - this town looks like Zone 2, but be careful between Zones 6 and 2! These colour lines help you understand which each location links to the next location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4600" y="4038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560" y="4419720"/>
            <a:ext cx="4444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ach station is whole of platform, not parts of platform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943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5181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6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864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23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79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5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211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3064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27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211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5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unnel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743200" y="1905120"/>
            <a:ext cx="456840" cy="304200"/>
            <a:chOff x="2743200" y="1905120"/>
            <a:chExt cx="456840" cy="304200"/>
          </a:xfrm>
        </p:grpSpPr>
        <p:sp>
          <p:nvSpPr>
            <p:cNvPr id="369" name=""/>
            <p:cNvSpPr/>
            <p:nvPr/>
          </p:nvSpPr>
          <p:spPr>
            <a:xfrm>
              <a:off x="2806200" y="1905120"/>
              <a:ext cx="304920" cy="30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43200" y="20566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886200" y="1905120"/>
            <a:ext cx="4114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ide Underground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 between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Way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Between Locations (Blue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cation have tunnel (you can e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 you see tunnel with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at takes you to outside by Zone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62320" y="2590920"/>
            <a:ext cx="1294920" cy="532800"/>
            <a:chOff x="2362320" y="2590920"/>
            <a:chExt cx="1294920" cy="532800"/>
          </a:xfrm>
        </p:grpSpPr>
        <p:sp>
          <p:nvSpPr>
            <p:cNvPr id="373" name=""/>
            <p:cNvSpPr/>
            <p:nvPr/>
          </p:nvSpPr>
          <p:spPr>
            <a:xfrm>
              <a:off x="2590560" y="274320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232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52680" y="2743200"/>
              <a:ext cx="15192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2408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6688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900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666880" y="2590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62320" y="3352320"/>
            <a:ext cx="1294920" cy="686160"/>
            <a:chOff x="2362320" y="3352320"/>
            <a:chExt cx="1294920" cy="686160"/>
          </a:xfrm>
        </p:grpSpPr>
        <p:sp>
          <p:nvSpPr>
            <p:cNvPr id="381" name=""/>
            <p:cNvSpPr/>
            <p:nvPr/>
          </p:nvSpPr>
          <p:spPr>
            <a:xfrm>
              <a:off x="2590560" y="3657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232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52680" y="36576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2408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900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666880" y="3352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666880" y="3352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124080" y="5562720"/>
            <a:ext cx="533160" cy="380520"/>
            <a:chOff x="3124080" y="5562720"/>
            <a:chExt cx="533160" cy="380520"/>
          </a:xfrm>
        </p:grpSpPr>
        <p:sp>
          <p:nvSpPr>
            <p:cNvPr id="389" name=""/>
            <p:cNvSpPr/>
            <p:nvPr/>
          </p:nvSpPr>
          <p:spPr>
            <a:xfrm>
              <a:off x="3352680" y="5562720"/>
              <a:ext cx="15228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2408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905120" y="5562720"/>
            <a:ext cx="533160" cy="380520"/>
            <a:chOff x="1905120" y="5562720"/>
            <a:chExt cx="533160" cy="380520"/>
          </a:xfrm>
        </p:grpSpPr>
        <p:sp>
          <p:nvSpPr>
            <p:cNvPr id="392" name=""/>
            <p:cNvSpPr/>
            <p:nvPr/>
          </p:nvSpPr>
          <p:spPr>
            <a:xfrm>
              <a:off x="2133360" y="556272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512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914400" y="4495680"/>
            <a:ext cx="2743200" cy="457200"/>
            <a:chOff x="914400" y="4495680"/>
            <a:chExt cx="2743200" cy="457200"/>
          </a:xfrm>
        </p:grpSpPr>
        <p:grpSp>
          <p:nvGrpSpPr>
            <p:cNvPr id="395" name=""/>
            <p:cNvGrpSpPr/>
            <p:nvPr/>
          </p:nvGrpSpPr>
          <p:grpSpPr>
            <a:xfrm>
              <a:off x="2286000" y="4495680"/>
              <a:ext cx="1371600" cy="457200"/>
              <a:chOff x="2286000" y="4495680"/>
              <a:chExt cx="1371600" cy="457200"/>
            </a:xfrm>
          </p:grpSpPr>
          <p:sp>
            <p:nvSpPr>
              <p:cNvPr id="396" name=""/>
              <p:cNvSpPr/>
              <p:nvPr/>
            </p:nvSpPr>
            <p:spPr>
              <a:xfrm>
                <a:off x="2286000" y="4647960"/>
                <a:ext cx="1143000" cy="3049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743200" y="4647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6196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240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19160" y="4952880"/>
                <a:ext cx="152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14400" y="4495680"/>
              <a:ext cx="838080" cy="457200"/>
              <a:chOff x="914400" y="4495680"/>
              <a:chExt cx="838080" cy="457200"/>
            </a:xfrm>
          </p:grpSpPr>
          <p:sp>
            <p:nvSpPr>
              <p:cNvPr id="402" name=""/>
              <p:cNvSpPr/>
              <p:nvPr/>
            </p:nvSpPr>
            <p:spPr>
              <a:xfrm>
                <a:off x="914400" y="464832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666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2916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51460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3962520"/>
            <a:ext cx="533160" cy="457200"/>
            <a:chOff x="533520" y="3962520"/>
            <a:chExt cx="533160" cy="457200"/>
          </a:xfrm>
        </p:grpSpPr>
        <p:sp>
          <p:nvSpPr>
            <p:cNvPr id="410" name=""/>
            <p:cNvSpPr/>
            <p:nvPr/>
          </p:nvSpPr>
          <p:spPr>
            <a:xfrm>
              <a:off x="685800" y="41911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3520" y="39625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28600" y="228600"/>
            <a:ext cx="2895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4419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505320"/>
            <a:ext cx="3886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105520" y="3885840"/>
            <a:ext cx="3429000" cy="2438640"/>
            <a:chOff x="5105520" y="3885840"/>
            <a:chExt cx="3429000" cy="2438640"/>
          </a:xfrm>
        </p:grpSpPr>
        <p:sp>
          <p:nvSpPr>
            <p:cNvPr id="417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87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99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7724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55308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1629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15200" y="426708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43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392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580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6953400" y="4083120"/>
              <a:ext cx="228600" cy="152280"/>
              <a:chOff x="6953400" y="4083120"/>
              <a:chExt cx="228600" cy="152280"/>
            </a:xfrm>
          </p:grpSpPr>
          <p:sp>
            <p:nvSpPr>
              <p:cNvPr id="430" name=""/>
              <p:cNvSpPr/>
              <p:nvPr/>
            </p:nvSpPr>
            <p:spPr>
              <a:xfrm>
                <a:off x="6985080" y="40831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53400" y="4159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7378920" y="403236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702560" y="4076640"/>
              <a:ext cx="228600" cy="152280"/>
              <a:chOff x="7702560" y="4076640"/>
              <a:chExt cx="228600" cy="152280"/>
            </a:xfrm>
          </p:grpSpPr>
          <p:sp>
            <p:nvSpPr>
              <p:cNvPr id="434" name=""/>
              <p:cNvSpPr/>
              <p:nvPr/>
            </p:nvSpPr>
            <p:spPr>
              <a:xfrm>
                <a:off x="7734240" y="40766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2560" y="4152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257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64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818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915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627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391520" y="3885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562720" y="3885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62720" y="3886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0552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010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58000" y="52578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02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94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784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924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562880" y="5073480"/>
              <a:ext cx="228600" cy="152280"/>
              <a:chOff x="7562880" y="5073480"/>
              <a:chExt cx="228600" cy="152280"/>
            </a:xfrm>
          </p:grpSpPr>
          <p:sp>
            <p:nvSpPr>
              <p:cNvPr id="453" name=""/>
              <p:cNvSpPr/>
              <p:nvPr/>
            </p:nvSpPr>
            <p:spPr>
              <a:xfrm>
                <a:off x="759456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6288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7239240" y="53341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5000" y="4495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7640" y="4495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7640" y="48769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48720" y="4876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48720" y="5410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840" y="57150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S 3 and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838080" y="762120"/>
            <a:ext cx="533520" cy="457200"/>
            <a:chOff x="838080" y="762120"/>
            <a:chExt cx="533520" cy="457200"/>
          </a:xfrm>
        </p:grpSpPr>
        <p:sp>
          <p:nvSpPr>
            <p:cNvPr id="463" name=""/>
            <p:cNvSpPr/>
            <p:nvPr/>
          </p:nvSpPr>
          <p:spPr>
            <a:xfrm>
              <a:off x="9907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76212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447920" y="762120"/>
            <a:ext cx="552240" cy="457200"/>
            <a:chOff x="1447920" y="762120"/>
            <a:chExt cx="552240" cy="457200"/>
          </a:xfrm>
        </p:grpSpPr>
        <p:sp>
          <p:nvSpPr>
            <p:cNvPr id="466" name=""/>
            <p:cNvSpPr/>
            <p:nvPr/>
          </p:nvSpPr>
          <p:spPr>
            <a:xfrm>
              <a:off x="16765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79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771560" y="806400"/>
              <a:ext cx="228600" cy="152280"/>
              <a:chOff x="1771560" y="806400"/>
              <a:chExt cx="228600" cy="152280"/>
            </a:xfrm>
          </p:grpSpPr>
          <p:sp>
            <p:nvSpPr>
              <p:cNvPr id="469" name=""/>
              <p:cNvSpPr/>
              <p:nvPr/>
            </p:nvSpPr>
            <p:spPr>
              <a:xfrm>
                <a:off x="18032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715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21337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05120" y="76212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228760" y="806400"/>
            <a:ext cx="228600" cy="152280"/>
            <a:chOff x="2228760" y="806400"/>
            <a:chExt cx="228600" cy="152280"/>
          </a:xfrm>
        </p:grpSpPr>
        <p:sp>
          <p:nvSpPr>
            <p:cNvPr id="474" name=""/>
            <p:cNvSpPr/>
            <p:nvPr/>
          </p:nvSpPr>
          <p:spPr>
            <a:xfrm>
              <a:off x="2260440" y="80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28760" y="882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295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38080" y="1066680"/>
            <a:ext cx="1600200" cy="304920"/>
            <a:chOff x="838080" y="1066680"/>
            <a:chExt cx="1600200" cy="304920"/>
          </a:xfrm>
        </p:grpSpPr>
        <p:sp>
          <p:nvSpPr>
            <p:cNvPr id="478" name=""/>
            <p:cNvSpPr/>
            <p:nvPr/>
          </p:nvSpPr>
          <p:spPr>
            <a:xfrm>
              <a:off x="1600200" y="1066680"/>
              <a:ext cx="838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10666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33520" y="1219320"/>
            <a:ext cx="2209680" cy="457200"/>
            <a:chOff x="533520" y="1219320"/>
            <a:chExt cx="2209680" cy="457200"/>
          </a:xfrm>
        </p:grpSpPr>
        <p:grpSp>
          <p:nvGrpSpPr>
            <p:cNvPr id="481" name=""/>
            <p:cNvGrpSpPr/>
            <p:nvPr/>
          </p:nvGrpSpPr>
          <p:grpSpPr>
            <a:xfrm>
              <a:off x="533520" y="1219320"/>
              <a:ext cx="2209680" cy="457200"/>
              <a:chOff x="533520" y="1219320"/>
              <a:chExt cx="2209680" cy="457200"/>
            </a:xfrm>
          </p:grpSpPr>
          <p:sp>
            <p:nvSpPr>
              <p:cNvPr id="482" name=""/>
              <p:cNvSpPr/>
              <p:nvPr/>
            </p:nvSpPr>
            <p:spPr>
              <a:xfrm flipH="1">
                <a:off x="5335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35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5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27432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 flipH="1">
              <a:off x="24379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505320" y="762120"/>
            <a:ext cx="552240" cy="457200"/>
            <a:chOff x="3505320" y="762120"/>
            <a:chExt cx="552240" cy="457200"/>
          </a:xfrm>
        </p:grpSpPr>
        <p:sp>
          <p:nvSpPr>
            <p:cNvPr id="488" name=""/>
            <p:cNvSpPr/>
            <p:nvPr/>
          </p:nvSpPr>
          <p:spPr>
            <a:xfrm>
              <a:off x="37339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053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828960" y="806400"/>
              <a:ext cx="228600" cy="152280"/>
              <a:chOff x="3828960" y="806400"/>
              <a:chExt cx="228600" cy="152280"/>
            </a:xfrm>
          </p:grpSpPr>
          <p:sp>
            <p:nvSpPr>
              <p:cNvPr id="491" name=""/>
              <p:cNvSpPr/>
              <p:nvPr/>
            </p:nvSpPr>
            <p:spPr>
              <a:xfrm>
                <a:off x="38606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8289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105520" y="762120"/>
            <a:ext cx="533160" cy="457200"/>
            <a:chOff x="5105520" y="762120"/>
            <a:chExt cx="533160" cy="457200"/>
          </a:xfrm>
        </p:grpSpPr>
        <p:sp>
          <p:nvSpPr>
            <p:cNvPr id="494" name=""/>
            <p:cNvSpPr/>
            <p:nvPr/>
          </p:nvSpPr>
          <p:spPr>
            <a:xfrm>
              <a:off x="5257800" y="9907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055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505320" y="1219320"/>
            <a:ext cx="2209680" cy="457200"/>
            <a:chOff x="3505320" y="1219320"/>
            <a:chExt cx="2209680" cy="457200"/>
          </a:xfrm>
        </p:grpSpPr>
        <p:grpSp>
          <p:nvGrpSpPr>
            <p:cNvPr id="497" name=""/>
            <p:cNvGrpSpPr/>
            <p:nvPr/>
          </p:nvGrpSpPr>
          <p:grpSpPr>
            <a:xfrm>
              <a:off x="3505320" y="1219320"/>
              <a:ext cx="2209680" cy="457200"/>
              <a:chOff x="3505320" y="1219320"/>
              <a:chExt cx="2209680" cy="45720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35053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053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053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57150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 flipH="1">
              <a:off x="54097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1066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7712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24280" y="609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495680" y="609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743200" y="609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362320" y="609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809880" y="1828800"/>
            <a:ext cx="2819520" cy="990720"/>
            <a:chOff x="3809880" y="1828800"/>
            <a:chExt cx="2819520" cy="990720"/>
          </a:xfrm>
        </p:grpSpPr>
        <p:sp>
          <p:nvSpPr>
            <p:cNvPr id="516" name=""/>
            <p:cNvSpPr/>
            <p:nvPr/>
          </p:nvSpPr>
          <p:spPr>
            <a:xfrm>
              <a:off x="5867280" y="24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95880" y="1981080"/>
              <a:ext cx="533520" cy="457200"/>
              <a:chOff x="6095880" y="1981080"/>
              <a:chExt cx="533520" cy="457200"/>
            </a:xfrm>
          </p:grpSpPr>
          <p:sp>
            <p:nvSpPr>
              <p:cNvPr id="518" name=""/>
              <p:cNvSpPr/>
              <p:nvPr/>
            </p:nvSpPr>
            <p:spPr>
              <a:xfrm>
                <a:off x="6248520" y="220968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5880" y="1981080"/>
                <a:ext cx="533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60958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2438280"/>
              <a:ext cx="1066680" cy="3812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384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56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62160" y="2286000"/>
              <a:ext cx="7621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86200" y="198108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J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22096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00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72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5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1828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276720" y="228600"/>
            <a:ext cx="396216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42670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41911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479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utside J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419112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3886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2388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9920" y="12193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22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33520" y="5029200"/>
            <a:ext cx="533160" cy="457200"/>
            <a:chOff x="533520" y="5029200"/>
            <a:chExt cx="533160" cy="457200"/>
          </a:xfrm>
        </p:grpSpPr>
        <p:sp>
          <p:nvSpPr>
            <p:cNvPr id="542" name=""/>
            <p:cNvSpPr/>
            <p:nvPr/>
          </p:nvSpPr>
          <p:spPr>
            <a:xfrm>
              <a:off x="685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676520" y="5029200"/>
            <a:ext cx="533160" cy="457200"/>
            <a:chOff x="1676520" y="5029200"/>
            <a:chExt cx="533160" cy="457200"/>
          </a:xfrm>
        </p:grpSpPr>
        <p:sp>
          <p:nvSpPr>
            <p:cNvPr id="545" name=""/>
            <p:cNvSpPr/>
            <p:nvPr/>
          </p:nvSpPr>
          <p:spPr>
            <a:xfrm>
              <a:off x="1828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6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6002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590920" y="5029200"/>
            <a:ext cx="552240" cy="457200"/>
            <a:chOff x="2590920" y="5029200"/>
            <a:chExt cx="552240" cy="457200"/>
          </a:xfrm>
        </p:grpSpPr>
        <p:sp>
          <p:nvSpPr>
            <p:cNvPr id="549" name=""/>
            <p:cNvSpPr/>
            <p:nvPr/>
          </p:nvSpPr>
          <p:spPr>
            <a:xfrm>
              <a:off x="281952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909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2914560" y="5073480"/>
              <a:ext cx="228600" cy="152280"/>
              <a:chOff x="2914560" y="5073480"/>
              <a:chExt cx="228600" cy="152280"/>
            </a:xfrm>
          </p:grpSpPr>
          <p:sp>
            <p:nvSpPr>
              <p:cNvPr id="552" name=""/>
              <p:cNvSpPr/>
              <p:nvPr/>
            </p:nvSpPr>
            <p:spPr>
              <a:xfrm>
                <a:off x="294624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1456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3886200" y="5257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5334120"/>
            <a:ext cx="533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23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7652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280" y="3657600"/>
            <a:ext cx="44960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228600" y="304920"/>
            <a:ext cx="6781680" cy="4190760"/>
            <a:chOff x="228600" y="304920"/>
            <a:chExt cx="6781680" cy="4190760"/>
          </a:xfrm>
        </p:grpSpPr>
        <p:grpSp>
          <p:nvGrpSpPr>
            <p:cNvPr id="564" name=""/>
            <p:cNvGrpSpPr/>
            <p:nvPr/>
          </p:nvGrpSpPr>
          <p:grpSpPr>
            <a:xfrm>
              <a:off x="380880" y="609120"/>
              <a:ext cx="6476760" cy="3428640"/>
              <a:chOff x="380880" y="609120"/>
              <a:chExt cx="6476760" cy="3428640"/>
            </a:xfrm>
          </p:grpSpPr>
          <p:sp>
            <p:nvSpPr>
              <p:cNvPr id="565" name=""/>
              <p:cNvSpPr/>
              <p:nvPr/>
            </p:nvSpPr>
            <p:spPr>
              <a:xfrm>
                <a:off x="1066680" y="1752120"/>
                <a:ext cx="1295280" cy="4568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76160" y="1752120"/>
                <a:ext cx="441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0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6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5867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333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05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71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343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962160" y="1523520"/>
                <a:ext cx="15228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3428640" y="1294920"/>
                <a:ext cx="533520" cy="456480"/>
                <a:chOff x="3428640" y="1294920"/>
                <a:chExt cx="533520" cy="456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580920" y="1523160"/>
                  <a:ext cx="1526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428640" y="1294920"/>
                  <a:ext cx="5335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8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3581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47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819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285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71240" y="1523520"/>
                <a:ext cx="15264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5998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57240" y="27424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10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57240" y="27424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857640" y="114228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09720" y="11422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12408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44756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619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4475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1676160" y="9133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76160" y="9136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90560" y="913680"/>
                <a:ext cx="45720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057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295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2361960" y="1980720"/>
                <a:ext cx="0" cy="75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29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 flipV="1">
                <a:off x="4647960" y="609120"/>
                <a:ext cx="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837720" y="609480"/>
                <a:ext cx="380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838080" y="609480"/>
                <a:ext cx="0" cy="28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61760" y="350460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80880" y="373320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33160" y="3580920"/>
                <a:ext cx="5335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914040" y="2513520"/>
                <a:ext cx="251460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28640" y="2513880"/>
                <a:ext cx="15264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228600" y="304920"/>
              <a:ext cx="6781680" cy="419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324480" y="5105520"/>
            <a:ext cx="2362320" cy="761760"/>
            <a:chOff x="6324480" y="5105520"/>
            <a:chExt cx="2362320" cy="761760"/>
          </a:xfrm>
        </p:grpSpPr>
        <p:sp>
          <p:nvSpPr>
            <p:cNvPr id="649" name=""/>
            <p:cNvSpPr/>
            <p:nvPr/>
          </p:nvSpPr>
          <p:spPr>
            <a:xfrm>
              <a:off x="6629400" y="571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244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532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102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3800" y="548640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246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380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34320" y="55627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772400" y="52578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201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8660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866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04920" y="4648320"/>
            <a:ext cx="3352320" cy="1828800"/>
            <a:chOff x="304920" y="4648320"/>
            <a:chExt cx="3352320" cy="1828800"/>
          </a:xfrm>
        </p:grpSpPr>
        <p:sp>
          <p:nvSpPr>
            <p:cNvPr id="662" name=""/>
            <p:cNvSpPr/>
            <p:nvPr/>
          </p:nvSpPr>
          <p:spPr>
            <a:xfrm>
              <a:off x="30492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80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5740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94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71600" y="5943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382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09680" y="5715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4080" y="594360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2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30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0040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4792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5800" y="4648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447920" y="5562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1066680" y="4800600"/>
              <a:ext cx="2590560" cy="609480"/>
              <a:chOff x="1066680" y="4800600"/>
              <a:chExt cx="2590560" cy="609480"/>
            </a:xfrm>
          </p:grpSpPr>
          <p:sp>
            <p:nvSpPr>
              <p:cNvPr id="677" name=""/>
              <p:cNvSpPr/>
              <p:nvPr/>
            </p:nvSpPr>
            <p:spPr>
              <a:xfrm>
                <a:off x="1447560" y="525780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666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1240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81916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90560" y="4800600"/>
                <a:ext cx="53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8108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52480" y="4800600"/>
                <a:ext cx="533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7524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38280" y="502920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382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514600" y="4648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85800" y="4648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382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096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954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5105520"/>
            <a:ext cx="1981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is ZON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is ZON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5:53:16Z</dcterms:created>
  <dc:creator>Wai K Lim</dc:creator>
  <dc:description/>
  <dc:language>en-US</dc:language>
  <cp:lastModifiedBy>Wai K Lim</cp:lastModifiedBy>
  <dcterms:modified xsi:type="dcterms:W3CDTF">2003-03-11T03:57:36Z</dcterms:modified>
  <cp:revision>180</cp:revision>
  <dc:subject/>
  <dc:title>No Slide Title</dc:title>
</cp:coreProperties>
</file>