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F935-0E35-4542-B1CE-2D26132B6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3169-61D4-4D3C-AFB7-FF372A977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FD61-56F4-4680-BFFE-D4436C3ED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6999-E15E-490E-9542-2B4F35613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E306-D7C0-4007-80AC-64E97D957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83DD-E031-4AE5-A9FF-6EE06AF97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EB82-2A1B-40EC-BC08-97ED9EDD4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99D-C103-445C-8B95-7433D35BC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B04E-3DFD-4E18-8BAC-6F2F60CF8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B05A-D5D1-432A-AFDE-B1EEF547D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8B16-7D10-4DBB-86FA-77581ACA7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2803-A8A2-4FC6-919D-756D4AAE0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B1A2-2FE0-4EF6-BBC4-910562F8D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4B8F-D206-4D6C-BC4A-AB2EF1AB6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152C-0BE8-4571-8242-0ACF3225B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F610-5B3E-4100-A820-7DFDEA347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7F34-4CD9-4724-B5E9-8674F9FCB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FDF8-9692-458D-B6D3-729D1D59A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E2D1-18D5-4BE1-95BA-B98491813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5ACB-2367-4624-BD23-9CEFB36CF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75308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94C-FE34-408C-B0CB-3573C746D0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36680" y="63115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3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6" name="word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ine" descr=""/>
          <p:cNvPicPr/>
          <p:nvPr/>
        </p:nvPicPr>
        <p:blipFill>
          <a:blip r:embed="rId4"/>
          <a:srcRect l="10998" t="12000" r="0" b="82671"/>
          <a:stretch/>
        </p:blipFill>
        <p:spPr>
          <a:xfrm>
            <a:off x="1117440" y="1003320"/>
            <a:ext cx="6858000" cy="307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" name="www.compaq" descr=""/>
          <p:cNvPicPr/>
          <p:nvPr/>
        </p:nvPicPr>
        <p:blipFill>
          <a:blip r:embed="rId5"/>
          <a:srcRect l="69504" t="87546" r="2953" b="6545"/>
          <a:stretch/>
        </p:blipFill>
        <p:spPr>
          <a:xfrm>
            <a:off x="5867280" y="5943600"/>
            <a:ext cx="2971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2700000" y="631152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50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53" name="title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5" name="www.compaq" descr=""/>
          <p:cNvPicPr/>
          <p:nvPr/>
        </p:nvPicPr>
        <p:blipFill>
          <a:blip r:embed="rId4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57160" algn="ctr">
              <a:spcBef>
                <a:spcPts val="68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160ba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160ba1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920" y="2209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un Configurations on FC-AL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932360" y="2570040"/>
            <a:ext cx="0" cy="121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651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630600" y="2379600"/>
            <a:ext cx="85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526080" y="230364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1704960" cy="1388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2124000"/>
            <a:ext cx="1216080" cy="576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648320"/>
            <a:ext cx="2995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 active 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554280" y="2379600"/>
            <a:ext cx="8384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001840" y="2684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5007600" y="31291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092320" y="1784520"/>
            <a:ext cx="1487520" cy="1285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76212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E801-3378-41E8-8C24-9FB4C8CA3A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98920" y="114336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4191120"/>
            <a:ext cx="2921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835520" y="28512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0" y="266544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368360" y="2163600"/>
            <a:ext cx="1830600" cy="1473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7082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882960" y="3809880"/>
            <a:ext cx="2286000" cy="15973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2379600"/>
            <a:ext cx="1714320" cy="6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311280" y="22082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250960" y="30160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480"/>
            <a:ext cx="5361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231720" y="327960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2994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234760" y="3316320"/>
            <a:ext cx="1841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0372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BE98-0043-4878-AEA4-BAC8B1BF21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3600" y="4267080"/>
            <a:ext cx="3200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2928960"/>
            <a:ext cx="0" cy="1098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2881440" y="2830680"/>
            <a:ext cx="1515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75160" y="2913120"/>
            <a:ext cx="9360" cy="1127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146240" y="2075040"/>
            <a:ext cx="1855800" cy="1512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962520"/>
            <a:ext cx="2209680" cy="1523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254480" y="2516040"/>
            <a:ext cx="1359000" cy="62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123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f5e8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5409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457520" y="3138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39640" y="2427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0"/>
            <a:ext cx="695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 Dual-Port (Active,Active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1390680" y="207504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AC8D-1952-4704-BB44-883C6539E9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32880" y="104832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267080"/>
            <a:ext cx="2895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368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965320" y="281772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24000"/>
            <a:ext cx="1830600" cy="14731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562640" y="28908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94156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736720"/>
            <a:ext cx="0" cy="14306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962520"/>
            <a:ext cx="2286000" cy="1596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4064040" y="2532240"/>
            <a:ext cx="1714320" cy="61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3371040" y="35211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5261760" y="351936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673600" y="352260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205520" y="35179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174480" y="2449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0" y="31766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0"/>
            <a:ext cx="672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2120"/>
            <a:ext cx="6996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 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506600" y="2131920"/>
            <a:ext cx="14540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8D1C-2320-44A6-9E12-6587150FBF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5029200"/>
            <a:ext cx="6019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2 Dual Redundant Controller Pairs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parent Failover Mode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1172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3193920" y="2523960"/>
            <a:ext cx="1047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6609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6780240" y="2752560"/>
            <a:ext cx="0" cy="90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7953480" y="2244600"/>
            <a:ext cx="0" cy="14558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608200"/>
            <a:ext cx="0" cy="981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222880" y="2766960"/>
            <a:ext cx="1595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708520" y="2582640"/>
            <a:ext cx="149724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5734080" y="2414520"/>
            <a:ext cx="1920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21360" y="2219040"/>
            <a:ext cx="280656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7616880" y="2414520"/>
            <a:ext cx="0" cy="1273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1868400"/>
            <a:ext cx="1677960" cy="1311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137120" y="2158920"/>
            <a:ext cx="174132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3505320"/>
            <a:ext cx="20952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05320"/>
            <a:ext cx="20970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0" y="310032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4685400" y="309708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049800" y="3105000"/>
            <a:ext cx="7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217640" y="310032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4308840" y="31021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309888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799680" y="309420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7580160" y="310212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130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546520" y="2770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0"/>
            <a:ext cx="657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762120"/>
            <a:ext cx="6767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(2) Dual Controllers /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183672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56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E3C4-BA2D-43F3-AFA3-A68A4B0686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862600" y="2284560"/>
            <a:ext cx="1062000" cy="9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28148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27240" y="2247840"/>
            <a:ext cx="1463760" cy="7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6788160" y="1647720"/>
            <a:ext cx="1581120" cy="1409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20380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225440" y="1633680"/>
            <a:ext cx="1530360" cy="137160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429000"/>
            <a:ext cx="1712880" cy="1380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48085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191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749320" y="17859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408120" y="2554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968800" y="1914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230440" y="2584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747520" y="299556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190480" y="301464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0"/>
            <a:ext cx="67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609480"/>
            <a:ext cx="5059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Single Controller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148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A074-6B59-4958-8010-116F6091D2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4040" y="1523880"/>
            <a:ext cx="7565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2049480"/>
            <a:ext cx="88272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2327400"/>
            <a:ext cx="3240" cy="885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68600" y="2049480"/>
            <a:ext cx="176688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1547640"/>
            <a:ext cx="1414440" cy="153684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eaeaea"/>
              </a:gs>
              <a:gs pos="100000">
                <a:srgbClr val="9e9e9e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6280" y="2203560"/>
            <a:ext cx="7920" cy="996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965160" y="1494000"/>
            <a:ext cx="1413000" cy="15732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5151600" y="2327400"/>
            <a:ext cx="2880" cy="1062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033800" y="2189160"/>
            <a:ext cx="3240" cy="12384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1766880" cy="1382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611600" y="1784520"/>
            <a:ext cx="132552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784520"/>
            <a:ext cx="132588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859000" y="16207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2458800" y="15987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4057200" y="2387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25462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25876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0"/>
            <a:ext cx="659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685800"/>
            <a:ext cx="47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Dual Controllers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648320"/>
            <a:ext cx="3767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43434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70C5-C302-4205-807F-6634C775A4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ww.compaq" descr=""/>
          <p:cNvPicPr/>
          <p:nvPr/>
        </p:nvPicPr>
        <p:blipFill>
          <a:blip r:embed="rId2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compaq%20better%20answers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6924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651B-9792-49B9-A9ED-EA8A84A27E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19:52:29Z</dcterms:created>
  <dc:creator>Jay C. Redford</dc:creator>
  <dc:description/>
  <dc:language>en-US</dc:language>
  <cp:lastModifiedBy>Jay C. Redford</cp:lastModifiedBy>
  <cp:lastPrinted>1998-12-10T22:46:21Z</cp:lastPrinted>
  <dcterms:modified xsi:type="dcterms:W3CDTF">1999-06-06T20:43:56Z</dcterms:modified>
  <cp:revision>1</cp:revision>
  <dc:subject/>
  <dc:title>Sun Configurations on FC-AL</dc:title>
</cp:coreProperties>
</file>