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9E4C-1443-4F5E-9DE9-573369663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215C-EFB9-4798-9B5D-D395392FA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F844-0E09-4B1E-9435-25C30889C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0132-1BD3-4D5C-9AA0-3B7DAEBF0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BCE7-BBB1-4684-B1AD-AB6419247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ED67-2DD4-494E-9A65-1ABF4391F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2D88-3CCB-4A71-9348-4A569000C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443A-D79A-4300-A0FB-BBBA097F0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B779-F3E3-406E-B3CB-464BE87D8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3CF3-948B-493C-906D-60A288365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A1B1-2114-44AD-B5BF-4DB4F0FC8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81B3-6B0E-4B02-A29C-7A2A842F1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44EC0-D168-4C97-AE41-BDDAAF3C7C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omplete Maps of Werewolves In Lond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ten by Wai K Li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lude symbols information and colours are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2590920"/>
            <a:ext cx="1600200" cy="3045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Map of Werewolves in Lond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19320" y="1219320"/>
            <a:ext cx="6400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lete of Town, Park and Ja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676520" y="3124080"/>
            <a:ext cx="533160" cy="304920"/>
            <a:chOff x="1676520" y="3124080"/>
            <a:chExt cx="533160" cy="304920"/>
          </a:xfrm>
        </p:grpSpPr>
        <p:sp>
          <p:nvSpPr>
            <p:cNvPr id="47" name=""/>
            <p:cNvSpPr/>
            <p:nvPr/>
          </p:nvSpPr>
          <p:spPr>
            <a:xfrm>
              <a:off x="1676520" y="3124080"/>
              <a:ext cx="533160" cy="304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" name=""/>
            <p:cNvGrpSpPr/>
            <p:nvPr/>
          </p:nvGrpSpPr>
          <p:grpSpPr>
            <a:xfrm>
              <a:off x="1904760" y="3200400"/>
              <a:ext cx="228240" cy="152280"/>
              <a:chOff x="1904760" y="3200400"/>
              <a:chExt cx="228240" cy="152280"/>
            </a:xfrm>
          </p:grpSpPr>
          <p:sp>
            <p:nvSpPr>
              <p:cNvPr id="49" name=""/>
              <p:cNvSpPr/>
              <p:nvPr/>
            </p:nvSpPr>
            <p:spPr>
              <a:xfrm>
                <a:off x="1936080" y="320040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1904760" y="3276360"/>
                <a:ext cx="228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1" name=""/>
          <p:cNvGrpSpPr/>
          <p:nvPr/>
        </p:nvGrpSpPr>
        <p:grpSpPr>
          <a:xfrm>
            <a:off x="1676520" y="3733560"/>
            <a:ext cx="533160" cy="457560"/>
            <a:chOff x="1676520" y="3733560"/>
            <a:chExt cx="533160" cy="457560"/>
          </a:xfrm>
        </p:grpSpPr>
        <p:sp>
          <p:nvSpPr>
            <p:cNvPr id="52" name=""/>
            <p:cNvSpPr/>
            <p:nvPr/>
          </p:nvSpPr>
          <p:spPr>
            <a:xfrm>
              <a:off x="1676520" y="3886200"/>
              <a:ext cx="533160" cy="304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>
              <a:off x="2057040" y="37335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1676520" y="4495680"/>
            <a:ext cx="533160" cy="304920"/>
            <a:chOff x="1676520" y="4495680"/>
            <a:chExt cx="533160" cy="304920"/>
          </a:xfrm>
        </p:grpSpPr>
        <p:sp>
          <p:nvSpPr>
            <p:cNvPr id="55" name=""/>
            <p:cNvSpPr/>
            <p:nvPr/>
          </p:nvSpPr>
          <p:spPr>
            <a:xfrm>
              <a:off x="1676520" y="4495680"/>
              <a:ext cx="533160" cy="304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752480" y="4648320"/>
              <a:ext cx="7560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676520" y="5105520"/>
            <a:ext cx="533160" cy="304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It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76520" y="5791320"/>
            <a:ext cx="533160" cy="304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354040" y="3124080"/>
            <a:ext cx="4036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This location with outside of Underground St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350800" y="3733920"/>
            <a:ext cx="64015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This location have opened door, that takes you to roof. If two location have links,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you can run and jump to other building (if you are wolf but not human!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354760" y="4495680"/>
            <a:ext cx="62067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This location have gap metal, you need a cork screwdriver to open and enter it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354760" y="5105520"/>
            <a:ext cx="48366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This location have item found, and you can pick for purpose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52960" y="5715000"/>
            <a:ext cx="5244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This location have First Aid item, that help you to stop bleep from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the police shoot at you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1676520" y="3124080"/>
            <a:ext cx="533160" cy="304920"/>
            <a:chOff x="1676520" y="3124080"/>
            <a:chExt cx="533160" cy="304920"/>
          </a:xfrm>
        </p:grpSpPr>
        <p:sp>
          <p:nvSpPr>
            <p:cNvPr id="65" name=""/>
            <p:cNvSpPr/>
            <p:nvPr/>
          </p:nvSpPr>
          <p:spPr>
            <a:xfrm>
              <a:off x="1676520" y="3124080"/>
              <a:ext cx="533160" cy="304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" name=""/>
            <p:cNvGrpSpPr/>
            <p:nvPr/>
          </p:nvGrpSpPr>
          <p:grpSpPr>
            <a:xfrm>
              <a:off x="1904760" y="3200400"/>
              <a:ext cx="228240" cy="152280"/>
              <a:chOff x="1904760" y="3200400"/>
              <a:chExt cx="228240" cy="152280"/>
            </a:xfrm>
          </p:grpSpPr>
          <p:sp>
            <p:nvSpPr>
              <p:cNvPr id="67" name=""/>
              <p:cNvSpPr/>
              <p:nvPr/>
            </p:nvSpPr>
            <p:spPr>
              <a:xfrm>
                <a:off x="1936080" y="320040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904760" y="3276360"/>
                <a:ext cx="228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9" name=""/>
          <p:cNvSpPr/>
          <p:nvPr/>
        </p:nvSpPr>
        <p:spPr>
          <a:xfrm>
            <a:off x="838080" y="25909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80880" y="2438280"/>
            <a:ext cx="53352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219320" y="2438280"/>
            <a:ext cx="53316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2057400"/>
            <a:ext cx="914400" cy="2286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1905120"/>
            <a:ext cx="533160" cy="304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354400" y="2209680"/>
            <a:ext cx="63147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This location will repeat while you walking across. This called LOOP locations!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391520" y="1600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105520" y="1219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371600" y="533520"/>
            <a:ext cx="1600200" cy="3045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657600" y="838080"/>
            <a:ext cx="990720" cy="4648320"/>
          </a:xfrm>
          <a:prstGeom prst="line">
            <a:avLst/>
          </a:prstGeom>
          <a:ln w="255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057400" y="5029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4100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312372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800600" y="42670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505320" y="4648320"/>
            <a:ext cx="2895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724280" y="50292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5257800" y="358092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5867280" y="434304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791320" y="61722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19920" y="6553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334120" y="2438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572000" y="2362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48320" y="2514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581280" y="31240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8862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581280" y="350532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553080" y="3352680"/>
            <a:ext cx="53352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553080" y="3733920"/>
            <a:ext cx="533520" cy="304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162920" y="3733920"/>
            <a:ext cx="533160" cy="304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162920" y="3352680"/>
            <a:ext cx="53316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Fi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620120" y="32000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38880" y="35053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352680"/>
            <a:ext cx="304920" cy="685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81880" y="3352680"/>
            <a:ext cx="53352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7772400" y="3581280"/>
            <a:ext cx="533520" cy="457200"/>
            <a:chOff x="7772400" y="3581280"/>
            <a:chExt cx="533520" cy="457200"/>
          </a:xfrm>
        </p:grpSpPr>
        <p:sp>
          <p:nvSpPr>
            <p:cNvPr id="104" name=""/>
            <p:cNvSpPr/>
            <p:nvPr/>
          </p:nvSpPr>
          <p:spPr>
            <a:xfrm>
              <a:off x="7772400" y="3733920"/>
              <a:ext cx="533520" cy="30456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8229600" y="35812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848720" y="388620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"/>
          <p:cNvSpPr/>
          <p:nvPr/>
        </p:nvSpPr>
        <p:spPr>
          <a:xfrm flipV="1">
            <a:off x="8534520" y="32000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8610480" y="3429000"/>
            <a:ext cx="228600" cy="152280"/>
            <a:chOff x="8610480" y="3429000"/>
            <a:chExt cx="228600" cy="152280"/>
          </a:xfrm>
        </p:grpSpPr>
        <p:sp>
          <p:nvSpPr>
            <p:cNvPr id="109" name=""/>
            <p:cNvSpPr/>
            <p:nvPr/>
          </p:nvSpPr>
          <p:spPr>
            <a:xfrm>
              <a:off x="8642160" y="34290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610480" y="35049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 flipV="1">
            <a:off x="7620120" y="2895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620120" y="28954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534520" y="2895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8229600" y="30477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229600" y="30481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352680"/>
            <a:ext cx="53316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952880" y="3352680"/>
            <a:ext cx="53352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343400" y="3352680"/>
            <a:ext cx="53352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733920" y="3352680"/>
            <a:ext cx="53316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733920" y="2971800"/>
            <a:ext cx="53316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3809880" y="28191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809880" y="31240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343400" y="2971800"/>
            <a:ext cx="53352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343400" y="2590920"/>
            <a:ext cx="533520" cy="304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343400" y="2209680"/>
            <a:ext cx="533520" cy="304920"/>
            <a:chOff x="4343400" y="2209680"/>
            <a:chExt cx="533520" cy="304920"/>
          </a:xfrm>
        </p:grpSpPr>
        <p:sp>
          <p:nvSpPr>
            <p:cNvPr id="126" name=""/>
            <p:cNvSpPr/>
            <p:nvPr/>
          </p:nvSpPr>
          <p:spPr>
            <a:xfrm>
              <a:off x="4343400" y="2209680"/>
              <a:ext cx="533520" cy="304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" name=""/>
            <p:cNvGrpSpPr/>
            <p:nvPr/>
          </p:nvGrpSpPr>
          <p:grpSpPr>
            <a:xfrm>
              <a:off x="4572000" y="2286000"/>
              <a:ext cx="228600" cy="152280"/>
              <a:chOff x="4572000" y="2286000"/>
              <a:chExt cx="228600" cy="152280"/>
            </a:xfrm>
          </p:grpSpPr>
          <p:sp>
            <p:nvSpPr>
              <p:cNvPr id="128" name=""/>
              <p:cNvSpPr/>
              <p:nvPr/>
            </p:nvSpPr>
            <p:spPr>
              <a:xfrm>
                <a:off x="4603680" y="228600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572000" y="236196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0" name=""/>
          <p:cNvSpPr/>
          <p:nvPr/>
        </p:nvSpPr>
        <p:spPr>
          <a:xfrm>
            <a:off x="5029200" y="2209680"/>
            <a:ext cx="53352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952880" y="2743200"/>
            <a:ext cx="1295640" cy="2286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486400" y="2743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90920"/>
            <a:ext cx="533520" cy="304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590920"/>
            <a:ext cx="533520" cy="304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352680" y="2971800"/>
            <a:ext cx="304920" cy="685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876920" y="31240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038480" y="2362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4038480" y="20570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038480" y="20574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553080" y="20574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562720" y="23623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12408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3124080" y="1828800"/>
            <a:ext cx="0" cy="1295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124080" y="18288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791320" y="182880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952880" y="3733920"/>
            <a:ext cx="533520" cy="304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952880" y="4114800"/>
            <a:ext cx="53352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562720" y="4114800"/>
            <a:ext cx="53316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4495680"/>
            <a:ext cx="53352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4495680"/>
            <a:ext cx="53316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733920" y="4495680"/>
            <a:ext cx="53316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172200" y="4495680"/>
            <a:ext cx="53352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952880" y="4876920"/>
            <a:ext cx="533520" cy="304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562720" y="4876920"/>
            <a:ext cx="533160" cy="304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952880" y="5257800"/>
            <a:ext cx="53352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562720" y="5257800"/>
            <a:ext cx="53316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952880" y="5638680"/>
            <a:ext cx="53352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Outsi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Ja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562720" y="5638680"/>
            <a:ext cx="53316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562720" y="6019920"/>
            <a:ext cx="533160" cy="304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562720" y="6400800"/>
            <a:ext cx="53316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172200" y="6400800"/>
            <a:ext cx="53352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781680" y="6400800"/>
            <a:ext cx="53352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791320" y="65530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010280" y="6248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172200" y="6019920"/>
            <a:ext cx="1143000" cy="304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781680" y="6400800"/>
            <a:ext cx="53352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733920" y="4876920"/>
            <a:ext cx="533160" cy="304560"/>
            <a:chOff x="3733920" y="4876920"/>
            <a:chExt cx="533160" cy="304560"/>
          </a:xfrm>
        </p:grpSpPr>
        <p:sp>
          <p:nvSpPr>
            <p:cNvPr id="168" name=""/>
            <p:cNvSpPr/>
            <p:nvPr/>
          </p:nvSpPr>
          <p:spPr>
            <a:xfrm>
              <a:off x="3733920" y="4876920"/>
              <a:ext cx="533160" cy="30456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4190760" y="49528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809880" y="502920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276720" y="4876920"/>
            <a:ext cx="380880" cy="685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3352680" y="5334120"/>
            <a:ext cx="228600" cy="152280"/>
            <a:chOff x="3352680" y="5334120"/>
            <a:chExt cx="228600" cy="152280"/>
          </a:xfrm>
        </p:grpSpPr>
        <p:sp>
          <p:nvSpPr>
            <p:cNvPr id="173" name=""/>
            <p:cNvSpPr/>
            <p:nvPr/>
          </p:nvSpPr>
          <p:spPr>
            <a:xfrm>
              <a:off x="3384360" y="53341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352680" y="54100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2666880" y="5257800"/>
            <a:ext cx="53352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o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09680" y="4876920"/>
            <a:ext cx="381240" cy="685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752480" y="4495680"/>
            <a:ext cx="381240" cy="685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590920" y="5029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2743200" y="4648320"/>
            <a:ext cx="7621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133720" y="4572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514240" y="457200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648320" y="4343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343400" y="4114800"/>
            <a:ext cx="53352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343400" y="4495680"/>
            <a:ext cx="53352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76920"/>
            <a:ext cx="533520" cy="304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791680" y="2209680"/>
            <a:ext cx="7066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Zone 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620480" y="4038480"/>
            <a:ext cx="7066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Zone 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515320" y="5562720"/>
            <a:ext cx="7066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Zone 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648320" y="5867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648320" y="64771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257800" y="5943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343400" y="6019920"/>
            <a:ext cx="533520" cy="3045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343400" y="5638680"/>
            <a:ext cx="533520" cy="304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0" y="57913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280" y="5867280"/>
            <a:ext cx="53352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52280" y="6324480"/>
            <a:ext cx="533520" cy="304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52280" y="5410080"/>
            <a:ext cx="53352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87240" y="5410080"/>
            <a:ext cx="6256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Tow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86880" y="5867280"/>
            <a:ext cx="5313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Par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86520" y="6324480"/>
            <a:ext cx="4460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Jai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581280" y="1066680"/>
            <a:ext cx="53352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4038480" y="9140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657600" y="12193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3657600" y="9140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4648320" y="54860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800600" y="685800"/>
            <a:ext cx="380880" cy="685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4876920" y="1143000"/>
            <a:ext cx="228600" cy="152280"/>
            <a:chOff x="4876920" y="1143000"/>
            <a:chExt cx="228600" cy="152280"/>
          </a:xfrm>
        </p:grpSpPr>
        <p:sp>
          <p:nvSpPr>
            <p:cNvPr id="208" name=""/>
            <p:cNvSpPr/>
            <p:nvPr/>
          </p:nvSpPr>
          <p:spPr>
            <a:xfrm>
              <a:off x="4908600" y="11430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876920" y="12189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5257800" y="1066680"/>
            <a:ext cx="53352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867280" y="685800"/>
            <a:ext cx="381240" cy="685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324480" y="1066680"/>
            <a:ext cx="53352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934320" y="1066680"/>
            <a:ext cx="53316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934320" y="1447920"/>
            <a:ext cx="533160" cy="304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cr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7543800" y="1447920"/>
            <a:ext cx="533520" cy="304560"/>
            <a:chOff x="7543800" y="1447920"/>
            <a:chExt cx="533520" cy="304560"/>
          </a:xfrm>
        </p:grpSpPr>
        <p:sp>
          <p:nvSpPr>
            <p:cNvPr id="216" name=""/>
            <p:cNvSpPr/>
            <p:nvPr/>
          </p:nvSpPr>
          <p:spPr>
            <a:xfrm>
              <a:off x="7543800" y="1447920"/>
              <a:ext cx="533520" cy="30456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V="1">
              <a:off x="8001000" y="15238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620120" y="160020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609480" y="12193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28600" y="1066680"/>
            <a:ext cx="53352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609480" y="9140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04920" y="12193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38080" y="1066680"/>
            <a:ext cx="53352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752480" y="8380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2742840" y="1219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971800" y="1066680"/>
            <a:ext cx="53352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3352680" y="9140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352680" y="12193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514600" y="685800"/>
            <a:ext cx="380880" cy="685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905120" y="685800"/>
            <a:ext cx="53316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2209680" y="380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981080" y="8380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209680" y="380880"/>
            <a:ext cx="5639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7848720" y="1142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848720" y="380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1447920" y="685800"/>
            <a:ext cx="380880" cy="685800"/>
            <a:chOff x="1447920" y="685800"/>
            <a:chExt cx="380880" cy="685800"/>
          </a:xfrm>
        </p:grpSpPr>
        <p:sp>
          <p:nvSpPr>
            <p:cNvPr id="237" name=""/>
            <p:cNvSpPr/>
            <p:nvPr/>
          </p:nvSpPr>
          <p:spPr>
            <a:xfrm>
              <a:off x="1447920" y="685800"/>
              <a:ext cx="380880" cy="6858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8" name=""/>
            <p:cNvGrpSpPr/>
            <p:nvPr/>
          </p:nvGrpSpPr>
          <p:grpSpPr>
            <a:xfrm>
              <a:off x="1523880" y="1143000"/>
              <a:ext cx="228600" cy="152280"/>
              <a:chOff x="1523880" y="1143000"/>
              <a:chExt cx="228600" cy="152280"/>
            </a:xfrm>
          </p:grpSpPr>
          <p:sp>
            <p:nvSpPr>
              <p:cNvPr id="239" name=""/>
              <p:cNvSpPr/>
              <p:nvPr/>
            </p:nvSpPr>
            <p:spPr>
              <a:xfrm>
                <a:off x="1555560" y="114300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523880" y="121896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1" name=""/>
          <p:cNvSpPr/>
          <p:nvPr/>
        </p:nvSpPr>
        <p:spPr>
          <a:xfrm>
            <a:off x="381600" y="533520"/>
            <a:ext cx="7066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Zone 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553800" y="685800"/>
            <a:ext cx="7066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Zone 4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4647960" y="533520"/>
            <a:ext cx="1752840" cy="304560"/>
            <a:chOff x="4647960" y="533520"/>
            <a:chExt cx="1752840" cy="304560"/>
          </a:xfrm>
        </p:grpSpPr>
        <p:sp>
          <p:nvSpPr>
            <p:cNvPr id="244" name=""/>
            <p:cNvSpPr/>
            <p:nvPr/>
          </p:nvSpPr>
          <p:spPr>
            <a:xfrm>
              <a:off x="6400800" y="5335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H="1">
              <a:off x="4647960" y="8380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4648320" y="5335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648320" y="53352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6248160" y="8380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5714640" y="228600"/>
            <a:ext cx="1905480" cy="990720"/>
            <a:chOff x="5714640" y="228600"/>
            <a:chExt cx="1905480" cy="990720"/>
          </a:xfrm>
        </p:grpSpPr>
        <p:sp>
          <p:nvSpPr>
            <p:cNvPr id="250" name=""/>
            <p:cNvSpPr/>
            <p:nvPr/>
          </p:nvSpPr>
          <p:spPr>
            <a:xfrm flipH="1">
              <a:off x="5714640" y="838080"/>
              <a:ext cx="152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715000" y="228600"/>
              <a:ext cx="0" cy="609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715000" y="228600"/>
              <a:ext cx="1905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>
              <a:off x="7467480" y="1219320"/>
              <a:ext cx="152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flipV="1">
              <a:off x="7620120" y="228600"/>
              <a:ext cx="0" cy="990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 flipV="1">
            <a:off x="3352680" y="609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352680" y="609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038480" y="609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 flipV="1">
            <a:off x="609480" y="914400"/>
            <a:ext cx="320040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 flipV="1">
            <a:off x="2057040" y="2743200"/>
            <a:ext cx="213372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609480" y="2742840"/>
            <a:ext cx="1774080" cy="838440"/>
            <a:chOff x="609480" y="2742840"/>
            <a:chExt cx="1774080" cy="838440"/>
          </a:xfrm>
        </p:grpSpPr>
        <p:sp>
          <p:nvSpPr>
            <p:cNvPr id="261" name=""/>
            <p:cNvSpPr/>
            <p:nvPr/>
          </p:nvSpPr>
          <p:spPr>
            <a:xfrm>
              <a:off x="762120" y="3048120"/>
              <a:ext cx="99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2" name=""/>
            <p:cNvGrpSpPr/>
            <p:nvPr/>
          </p:nvGrpSpPr>
          <p:grpSpPr>
            <a:xfrm>
              <a:off x="990720" y="2743200"/>
              <a:ext cx="533160" cy="457200"/>
              <a:chOff x="990720" y="2743200"/>
              <a:chExt cx="533160" cy="457200"/>
            </a:xfrm>
          </p:grpSpPr>
          <p:sp>
            <p:nvSpPr>
              <p:cNvPr id="263" name=""/>
              <p:cNvSpPr/>
              <p:nvPr/>
            </p:nvSpPr>
            <p:spPr>
              <a:xfrm>
                <a:off x="990720" y="2895840"/>
                <a:ext cx="533160" cy="3045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flipV="1">
                <a:off x="1447560" y="274320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1066680" y="3048120"/>
                <a:ext cx="7560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1600200" y="2742840"/>
              <a:ext cx="533520" cy="457560"/>
              <a:chOff x="1600200" y="2742840"/>
              <a:chExt cx="533520" cy="457560"/>
            </a:xfrm>
          </p:grpSpPr>
          <p:sp>
            <p:nvSpPr>
              <p:cNvPr id="267" name=""/>
              <p:cNvSpPr/>
              <p:nvPr/>
            </p:nvSpPr>
            <p:spPr>
              <a:xfrm>
                <a:off x="1600200" y="2895480"/>
                <a:ext cx="533520" cy="30492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V="1">
                <a:off x="2057400" y="274284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1905120" y="304812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0" name=""/>
            <p:cNvSpPr/>
            <p:nvPr/>
          </p:nvSpPr>
          <p:spPr>
            <a:xfrm flipH="1">
              <a:off x="837720" y="3429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990720" y="3276720"/>
              <a:ext cx="533160" cy="304560"/>
              <a:chOff x="990720" y="3276720"/>
              <a:chExt cx="533160" cy="304560"/>
            </a:xfrm>
          </p:grpSpPr>
          <p:sp>
            <p:nvSpPr>
              <p:cNvPr id="272" name=""/>
              <p:cNvSpPr/>
              <p:nvPr/>
            </p:nvSpPr>
            <p:spPr>
              <a:xfrm>
                <a:off x="990720" y="3276720"/>
                <a:ext cx="533160" cy="3045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flipV="1">
                <a:off x="1447560" y="335268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1066680" y="342900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5" name=""/>
            <p:cNvSpPr/>
            <p:nvPr/>
          </p:nvSpPr>
          <p:spPr>
            <a:xfrm>
              <a:off x="609480" y="2895480"/>
              <a:ext cx="304920" cy="6858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447920" y="2743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447920" y="33526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676520" y="274320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676880" y="3200400"/>
              <a:ext cx="7066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Zone 7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0" name=""/>
          <p:cNvSpPr/>
          <p:nvPr/>
        </p:nvSpPr>
        <p:spPr>
          <a:xfrm>
            <a:off x="720" y="495288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Ke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762120" y="4800600"/>
            <a:ext cx="1295280" cy="3049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905120" y="5943600"/>
            <a:ext cx="4419360" cy="5335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4114800" y="837720"/>
            <a:ext cx="4572000" cy="1999080"/>
            <a:chOff x="4114800" y="837720"/>
            <a:chExt cx="4572000" cy="1999080"/>
          </a:xfrm>
        </p:grpSpPr>
        <p:sp>
          <p:nvSpPr>
            <p:cNvPr id="284" name=""/>
            <p:cNvSpPr/>
            <p:nvPr/>
          </p:nvSpPr>
          <p:spPr>
            <a:xfrm>
              <a:off x="4267080" y="22096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267080" y="2514600"/>
              <a:ext cx="4267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4952880" y="152352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952880" y="1523880"/>
              <a:ext cx="304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495680" y="2057400"/>
              <a:ext cx="304920" cy="6858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114800" y="2057400"/>
              <a:ext cx="304920" cy="6858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001000" y="15238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8001000" y="22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8381880" y="2057400"/>
              <a:ext cx="304920" cy="6858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3" name=""/>
            <p:cNvGrpSpPr/>
            <p:nvPr/>
          </p:nvGrpSpPr>
          <p:grpSpPr>
            <a:xfrm>
              <a:off x="5486400" y="1219320"/>
              <a:ext cx="2133720" cy="838080"/>
              <a:chOff x="5486400" y="1219320"/>
              <a:chExt cx="2133720" cy="838080"/>
            </a:xfrm>
          </p:grpSpPr>
          <p:grpSp>
            <p:nvGrpSpPr>
              <p:cNvPr id="294" name=""/>
              <p:cNvGrpSpPr/>
              <p:nvPr/>
            </p:nvGrpSpPr>
            <p:grpSpPr>
              <a:xfrm>
                <a:off x="7086600" y="1600200"/>
                <a:ext cx="533520" cy="457200"/>
                <a:chOff x="7086600" y="1600200"/>
                <a:chExt cx="533520" cy="45720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7086600" y="1752840"/>
                  <a:ext cx="533520" cy="304560"/>
                </a:xfrm>
                <a:prstGeom prst="rect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 flipV="1">
                  <a:off x="7543800" y="160020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7162920" y="190512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8" name=""/>
              <p:cNvSpPr/>
              <p:nvPr/>
            </p:nvSpPr>
            <p:spPr>
              <a:xfrm>
                <a:off x="6477120" y="1752840"/>
                <a:ext cx="533160" cy="3045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6095880" y="1371600"/>
                <a:ext cx="304920" cy="68580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00" name=""/>
              <p:cNvGrpSpPr/>
              <p:nvPr/>
            </p:nvGrpSpPr>
            <p:grpSpPr>
              <a:xfrm>
                <a:off x="5486400" y="1219320"/>
                <a:ext cx="533520" cy="457200"/>
                <a:chOff x="5486400" y="1219320"/>
                <a:chExt cx="533520" cy="45720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5486400" y="1371960"/>
                  <a:ext cx="533520" cy="304560"/>
                </a:xfrm>
                <a:prstGeom prst="rect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 flipV="1">
                  <a:off x="5943600" y="121932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5562720" y="152424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04" name=""/>
            <p:cNvGrpSpPr/>
            <p:nvPr/>
          </p:nvGrpSpPr>
          <p:grpSpPr>
            <a:xfrm>
              <a:off x="5943600" y="837720"/>
              <a:ext cx="1600200" cy="762120"/>
              <a:chOff x="5943600" y="837720"/>
              <a:chExt cx="1600200" cy="762120"/>
            </a:xfrm>
          </p:grpSpPr>
          <p:sp>
            <p:nvSpPr>
              <p:cNvPr id="305" name=""/>
              <p:cNvSpPr/>
              <p:nvPr/>
            </p:nvSpPr>
            <p:spPr>
              <a:xfrm flipV="1">
                <a:off x="5943600" y="837720"/>
                <a:ext cx="0" cy="3812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7543800" y="837720"/>
                <a:ext cx="0" cy="7621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5943600" y="838080"/>
                <a:ext cx="1600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8" name=""/>
            <p:cNvSpPr/>
            <p:nvPr/>
          </p:nvSpPr>
          <p:spPr>
            <a:xfrm>
              <a:off x="6171840" y="2514600"/>
              <a:ext cx="14896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Secret of Zone 8!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457200" y="457200"/>
            <a:ext cx="3200400" cy="3063960"/>
            <a:chOff x="457200" y="457200"/>
            <a:chExt cx="3200400" cy="3063960"/>
          </a:xfrm>
        </p:grpSpPr>
        <p:sp>
          <p:nvSpPr>
            <p:cNvPr id="310" name=""/>
            <p:cNvSpPr/>
            <p:nvPr/>
          </p:nvSpPr>
          <p:spPr>
            <a:xfrm>
              <a:off x="2514600" y="1447920"/>
              <a:ext cx="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09480" y="2133720"/>
              <a:ext cx="2971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57200" y="1600200"/>
              <a:ext cx="304560" cy="6858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295280" y="1600200"/>
              <a:ext cx="304920" cy="6858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676160" y="1981080"/>
              <a:ext cx="533520" cy="304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286000" y="1981080"/>
              <a:ext cx="533160" cy="304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286000" y="1600200"/>
              <a:ext cx="533160" cy="304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352680" y="1600200"/>
              <a:ext cx="304920" cy="6858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8" name=""/>
            <p:cNvGrpSpPr/>
            <p:nvPr/>
          </p:nvGrpSpPr>
          <p:grpSpPr>
            <a:xfrm>
              <a:off x="1142640" y="914400"/>
              <a:ext cx="1905120" cy="838080"/>
              <a:chOff x="1142640" y="914400"/>
              <a:chExt cx="1905120" cy="838080"/>
            </a:xfrm>
          </p:grpSpPr>
          <p:grpSp>
            <p:nvGrpSpPr>
              <p:cNvPr id="319" name=""/>
              <p:cNvGrpSpPr/>
              <p:nvPr/>
            </p:nvGrpSpPr>
            <p:grpSpPr>
              <a:xfrm>
                <a:off x="1142640" y="914400"/>
                <a:ext cx="1905120" cy="838080"/>
                <a:chOff x="1142640" y="914400"/>
                <a:chExt cx="1905120" cy="838080"/>
              </a:xfrm>
            </p:grpSpPr>
            <p:sp>
              <p:nvSpPr>
                <p:cNvPr id="320" name=""/>
                <p:cNvSpPr/>
                <p:nvPr/>
              </p:nvSpPr>
              <p:spPr>
                <a:xfrm flipH="1">
                  <a:off x="1142640" y="1752480"/>
                  <a:ext cx="152280" cy="0"/>
                </a:xfrm>
                <a:prstGeom prst="line">
                  <a:avLst/>
                </a:prstGeom>
                <a:ln w="255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 flipV="1">
                  <a:off x="1143000" y="914400"/>
                  <a:ext cx="0" cy="838080"/>
                </a:xfrm>
                <a:prstGeom prst="line">
                  <a:avLst/>
                </a:prstGeom>
                <a:ln w="255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1143000" y="914400"/>
                  <a:ext cx="1904760" cy="0"/>
                </a:xfrm>
                <a:prstGeom prst="line">
                  <a:avLst/>
                </a:prstGeom>
                <a:ln w="255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3047760" y="914400"/>
                  <a:ext cx="0" cy="457200"/>
                </a:xfrm>
                <a:prstGeom prst="line">
                  <a:avLst/>
                </a:prstGeom>
                <a:ln w="255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4" name=""/>
              <p:cNvSpPr/>
              <p:nvPr/>
            </p:nvSpPr>
            <p:spPr>
              <a:xfrm>
                <a:off x="2819160" y="1371600"/>
                <a:ext cx="228240" cy="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1600200" y="457200"/>
              <a:ext cx="1752120" cy="1295280"/>
              <a:chOff x="1600200" y="457200"/>
              <a:chExt cx="1752120" cy="1295280"/>
            </a:xfrm>
          </p:grpSpPr>
          <p:sp>
            <p:nvSpPr>
              <p:cNvPr id="326" name=""/>
              <p:cNvSpPr/>
              <p:nvPr/>
            </p:nvSpPr>
            <p:spPr>
              <a:xfrm>
                <a:off x="1600200" y="1752480"/>
                <a:ext cx="30456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flipV="1">
                <a:off x="1904760" y="457200"/>
                <a:ext cx="0" cy="1295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904760" y="457200"/>
                <a:ext cx="129492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200040" y="457200"/>
                <a:ext cx="0" cy="1295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200040" y="1752480"/>
                <a:ext cx="15228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1" name=""/>
            <p:cNvGrpSpPr/>
            <p:nvPr/>
          </p:nvGrpSpPr>
          <p:grpSpPr>
            <a:xfrm>
              <a:off x="761760" y="1371600"/>
              <a:ext cx="1981080" cy="304560"/>
              <a:chOff x="761760" y="1371600"/>
              <a:chExt cx="1981080" cy="304560"/>
            </a:xfrm>
          </p:grpSpPr>
          <p:sp>
            <p:nvSpPr>
              <p:cNvPr id="332" name=""/>
              <p:cNvSpPr/>
              <p:nvPr/>
            </p:nvSpPr>
            <p:spPr>
              <a:xfrm flipV="1">
                <a:off x="761760" y="1371600"/>
                <a:ext cx="228600" cy="304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990360" y="1371600"/>
                <a:ext cx="17524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4" name=""/>
            <p:cNvGrpSpPr/>
            <p:nvPr/>
          </p:nvGrpSpPr>
          <p:grpSpPr>
            <a:xfrm>
              <a:off x="2286000" y="1219320"/>
              <a:ext cx="533160" cy="304560"/>
              <a:chOff x="2286000" y="1219320"/>
              <a:chExt cx="533160" cy="304560"/>
            </a:xfrm>
          </p:grpSpPr>
          <p:sp>
            <p:nvSpPr>
              <p:cNvPr id="335" name=""/>
              <p:cNvSpPr/>
              <p:nvPr/>
            </p:nvSpPr>
            <p:spPr>
              <a:xfrm>
                <a:off x="2286000" y="1219320"/>
                <a:ext cx="533160" cy="3045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36" name=""/>
              <p:cNvGrpSpPr/>
              <p:nvPr/>
            </p:nvGrpSpPr>
            <p:grpSpPr>
              <a:xfrm>
                <a:off x="2514240" y="1295280"/>
                <a:ext cx="228240" cy="151920"/>
                <a:chOff x="2514240" y="1295280"/>
                <a:chExt cx="228240" cy="151920"/>
              </a:xfrm>
            </p:grpSpPr>
            <p:sp>
              <p:nvSpPr>
                <p:cNvPr id="337" name=""/>
                <p:cNvSpPr/>
                <p:nvPr/>
              </p:nvSpPr>
              <p:spPr>
                <a:xfrm>
                  <a:off x="2545560" y="1295280"/>
                  <a:ext cx="152280" cy="1519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2514240" y="1370880"/>
                  <a:ext cx="228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39" name=""/>
            <p:cNvSpPr/>
            <p:nvPr/>
          </p:nvSpPr>
          <p:spPr>
            <a:xfrm>
              <a:off x="457200" y="2286000"/>
              <a:ext cx="3124080" cy="12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Zone 6 - this town looks like Zone 2, but be careful between Zones 6 and 2! These colour lines help you understand which each location links to the next location.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34600" y="4038480"/>
            <a:ext cx="12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01560" y="4419720"/>
            <a:ext cx="44449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Each station is whole of platform, not parts of platform: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124080" y="5943600"/>
            <a:ext cx="2210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286000" y="5715000"/>
            <a:ext cx="9907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657600" y="5715000"/>
            <a:ext cx="9907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029200" y="5715000"/>
            <a:ext cx="9907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752480" y="518148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14400" y="4952880"/>
            <a:ext cx="9907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286000" y="4952880"/>
            <a:ext cx="9907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657600" y="4952880"/>
            <a:ext cx="9907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029200" y="4952880"/>
            <a:ext cx="9907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486400" y="5334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990720" y="50292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2320" y="50292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733920" y="50292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867280" y="50292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362320" y="57913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733920" y="57913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105520" y="57913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677960" y="4876920"/>
            <a:ext cx="289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049560" y="4876920"/>
            <a:ext cx="289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421160" y="4876920"/>
            <a:ext cx="289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030640" y="4876920"/>
            <a:ext cx="289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792760" y="5638680"/>
            <a:ext cx="289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421160" y="5638680"/>
            <a:ext cx="289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049560" y="5638680"/>
            <a:ext cx="289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Map of Werewolves in Lond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1219320" y="12189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lete of Tunnel Ma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2743200" y="1905120"/>
            <a:ext cx="456840" cy="304200"/>
            <a:chOff x="2743200" y="1905120"/>
            <a:chExt cx="456840" cy="304200"/>
          </a:xfrm>
        </p:grpSpPr>
        <p:sp>
          <p:nvSpPr>
            <p:cNvPr id="369" name=""/>
            <p:cNvSpPr/>
            <p:nvPr/>
          </p:nvSpPr>
          <p:spPr>
            <a:xfrm>
              <a:off x="2806200" y="1905120"/>
              <a:ext cx="304920" cy="3042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743200" y="2056680"/>
              <a:ext cx="456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1" name=""/>
          <p:cNvSpPr/>
          <p:nvPr/>
        </p:nvSpPr>
        <p:spPr>
          <a:xfrm>
            <a:off x="3886200" y="1905120"/>
            <a:ext cx="41148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nside Underground S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Link between Lo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One Way On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Loop Between Locations (Blue Lin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Location have tunnel (you can ent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If you see tunnel with number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that takes you to outside by Zone numb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2362320" y="2590920"/>
            <a:ext cx="1294920" cy="532800"/>
            <a:chOff x="2362320" y="2590920"/>
            <a:chExt cx="1294920" cy="532800"/>
          </a:xfrm>
        </p:grpSpPr>
        <p:sp>
          <p:nvSpPr>
            <p:cNvPr id="373" name=""/>
            <p:cNvSpPr/>
            <p:nvPr/>
          </p:nvSpPr>
          <p:spPr>
            <a:xfrm>
              <a:off x="2590560" y="2743200"/>
              <a:ext cx="152280" cy="228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362320" y="2819160"/>
              <a:ext cx="53316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352680" y="2743200"/>
              <a:ext cx="151920" cy="228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124080" y="2819160"/>
              <a:ext cx="53316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666880" y="25909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429000" y="25909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flipH="1">
              <a:off x="2666880" y="259092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2362320" y="3352320"/>
            <a:ext cx="1294920" cy="686160"/>
            <a:chOff x="2362320" y="3352320"/>
            <a:chExt cx="1294920" cy="686160"/>
          </a:xfrm>
        </p:grpSpPr>
        <p:sp>
          <p:nvSpPr>
            <p:cNvPr id="381" name=""/>
            <p:cNvSpPr/>
            <p:nvPr/>
          </p:nvSpPr>
          <p:spPr>
            <a:xfrm>
              <a:off x="2590560" y="3657600"/>
              <a:ext cx="15228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362320" y="3733560"/>
              <a:ext cx="53316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352680" y="3657600"/>
              <a:ext cx="15192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124080" y="3733560"/>
              <a:ext cx="53316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429000" y="33526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H="1">
              <a:off x="2666880" y="335268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V="1">
              <a:off x="2666880" y="335232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3124080" y="5562720"/>
            <a:ext cx="533160" cy="380520"/>
            <a:chOff x="3124080" y="5562720"/>
            <a:chExt cx="533160" cy="380520"/>
          </a:xfrm>
        </p:grpSpPr>
        <p:sp>
          <p:nvSpPr>
            <p:cNvPr id="389" name=""/>
            <p:cNvSpPr/>
            <p:nvPr/>
          </p:nvSpPr>
          <p:spPr>
            <a:xfrm>
              <a:off x="3352680" y="5562720"/>
              <a:ext cx="152280" cy="228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124080" y="5638680"/>
              <a:ext cx="53316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1" name=""/>
          <p:cNvGrpSpPr/>
          <p:nvPr/>
        </p:nvGrpSpPr>
        <p:grpSpPr>
          <a:xfrm>
            <a:off x="1905120" y="5562720"/>
            <a:ext cx="533160" cy="380520"/>
            <a:chOff x="1905120" y="5562720"/>
            <a:chExt cx="533160" cy="380520"/>
          </a:xfrm>
        </p:grpSpPr>
        <p:sp>
          <p:nvSpPr>
            <p:cNvPr id="392" name=""/>
            <p:cNvSpPr/>
            <p:nvPr/>
          </p:nvSpPr>
          <p:spPr>
            <a:xfrm>
              <a:off x="2133360" y="5562720"/>
              <a:ext cx="152280" cy="228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905120" y="5638680"/>
              <a:ext cx="53316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914400" y="4495680"/>
            <a:ext cx="2743200" cy="457200"/>
            <a:chOff x="914400" y="4495680"/>
            <a:chExt cx="2743200" cy="457200"/>
          </a:xfrm>
        </p:grpSpPr>
        <p:grpSp>
          <p:nvGrpSpPr>
            <p:cNvPr id="395" name=""/>
            <p:cNvGrpSpPr/>
            <p:nvPr/>
          </p:nvGrpSpPr>
          <p:grpSpPr>
            <a:xfrm>
              <a:off x="2286000" y="4495680"/>
              <a:ext cx="1371600" cy="457200"/>
              <a:chOff x="2286000" y="4495680"/>
              <a:chExt cx="1371600" cy="457200"/>
            </a:xfrm>
          </p:grpSpPr>
          <p:sp>
            <p:nvSpPr>
              <p:cNvPr id="396" name=""/>
              <p:cNvSpPr/>
              <p:nvPr/>
            </p:nvSpPr>
            <p:spPr>
              <a:xfrm>
                <a:off x="2286000" y="4647960"/>
                <a:ext cx="1143000" cy="304920"/>
              </a:xfrm>
              <a:prstGeom prst="rect">
                <a:avLst/>
              </a:prstGeom>
              <a:noFill/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flipH="1">
                <a:off x="2743200" y="464796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2361960" y="4495680"/>
                <a:ext cx="53352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3124080" y="4495680"/>
                <a:ext cx="53352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2819160" y="4952880"/>
                <a:ext cx="15264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1" name=""/>
            <p:cNvGrpSpPr/>
            <p:nvPr/>
          </p:nvGrpSpPr>
          <p:grpSpPr>
            <a:xfrm>
              <a:off x="914400" y="4495680"/>
              <a:ext cx="838080" cy="457200"/>
              <a:chOff x="914400" y="4495680"/>
              <a:chExt cx="838080" cy="457200"/>
            </a:xfrm>
          </p:grpSpPr>
          <p:sp>
            <p:nvSpPr>
              <p:cNvPr id="402" name=""/>
              <p:cNvSpPr/>
              <p:nvPr/>
            </p:nvSpPr>
            <p:spPr>
              <a:xfrm>
                <a:off x="914400" y="4648320"/>
                <a:ext cx="838080" cy="304560"/>
              </a:xfrm>
              <a:prstGeom prst="rect">
                <a:avLst/>
              </a:prstGeom>
              <a:noFill/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1066680" y="4495680"/>
                <a:ext cx="53352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4" name=""/>
            <p:cNvSpPr/>
            <p:nvPr/>
          </p:nvSpPr>
          <p:spPr>
            <a:xfrm>
              <a:off x="1829160" y="4495680"/>
              <a:ext cx="394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2514600" y="5486400"/>
            <a:ext cx="1828800" cy="3808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80880" y="5486400"/>
            <a:ext cx="1828800" cy="3808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990720" y="54864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124080" y="5486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533520" y="3962520"/>
            <a:ext cx="533160" cy="457200"/>
            <a:chOff x="533520" y="3962520"/>
            <a:chExt cx="533160" cy="457200"/>
          </a:xfrm>
        </p:grpSpPr>
        <p:sp>
          <p:nvSpPr>
            <p:cNvPr id="410" name=""/>
            <p:cNvSpPr/>
            <p:nvPr/>
          </p:nvSpPr>
          <p:spPr>
            <a:xfrm>
              <a:off x="685800" y="4191120"/>
              <a:ext cx="15192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33520" y="3962520"/>
              <a:ext cx="533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5C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2" name=""/>
          <p:cNvSpPr/>
          <p:nvPr/>
        </p:nvSpPr>
        <p:spPr>
          <a:xfrm>
            <a:off x="228600" y="228600"/>
            <a:ext cx="289548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ON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990720" y="441972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733920" y="121932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952880" y="3505320"/>
            <a:ext cx="3886200" cy="297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6" name=""/>
          <p:cNvGrpSpPr/>
          <p:nvPr/>
        </p:nvGrpSpPr>
        <p:grpSpPr>
          <a:xfrm>
            <a:off x="5105520" y="3885840"/>
            <a:ext cx="3429000" cy="2438640"/>
            <a:chOff x="5105520" y="3885840"/>
            <a:chExt cx="3429000" cy="2438640"/>
          </a:xfrm>
        </p:grpSpPr>
        <p:sp>
          <p:nvSpPr>
            <p:cNvPr id="417" name=""/>
            <p:cNvSpPr/>
            <p:nvPr/>
          </p:nvSpPr>
          <p:spPr>
            <a:xfrm>
              <a:off x="6477120" y="5486400"/>
              <a:ext cx="182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848720" y="4343400"/>
              <a:ext cx="5335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019920" y="4343400"/>
              <a:ext cx="5335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flipH="1">
              <a:off x="7772400" y="44956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 flipH="1">
              <a:off x="6553080" y="44956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7162920" y="44956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315200" y="4267080"/>
              <a:ext cx="15264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543800" y="4267080"/>
              <a:ext cx="15264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239240" y="4343400"/>
              <a:ext cx="53316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858000" y="4267080"/>
              <a:ext cx="15264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629400" y="4343400"/>
              <a:ext cx="5335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629400" y="4038480"/>
              <a:ext cx="5335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3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9" name=""/>
            <p:cNvGrpSpPr/>
            <p:nvPr/>
          </p:nvGrpSpPr>
          <p:grpSpPr>
            <a:xfrm>
              <a:off x="6953400" y="4083120"/>
              <a:ext cx="228600" cy="152280"/>
              <a:chOff x="6953400" y="4083120"/>
              <a:chExt cx="228600" cy="152280"/>
            </a:xfrm>
          </p:grpSpPr>
          <p:sp>
            <p:nvSpPr>
              <p:cNvPr id="430" name=""/>
              <p:cNvSpPr/>
              <p:nvPr/>
            </p:nvSpPr>
            <p:spPr>
              <a:xfrm>
                <a:off x="6985080" y="408312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6953400" y="415908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2" name=""/>
            <p:cNvSpPr/>
            <p:nvPr/>
          </p:nvSpPr>
          <p:spPr>
            <a:xfrm>
              <a:off x="7378920" y="4032360"/>
              <a:ext cx="533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3B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3" name=""/>
            <p:cNvGrpSpPr/>
            <p:nvPr/>
          </p:nvGrpSpPr>
          <p:grpSpPr>
            <a:xfrm>
              <a:off x="7702560" y="4076640"/>
              <a:ext cx="228600" cy="152280"/>
              <a:chOff x="7702560" y="4076640"/>
              <a:chExt cx="228600" cy="152280"/>
            </a:xfrm>
          </p:grpSpPr>
          <p:sp>
            <p:nvSpPr>
              <p:cNvPr id="434" name=""/>
              <p:cNvSpPr/>
              <p:nvPr/>
            </p:nvSpPr>
            <p:spPr>
              <a:xfrm>
                <a:off x="7734240" y="407664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7702560" y="415260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6" name=""/>
            <p:cNvSpPr/>
            <p:nvPr/>
          </p:nvSpPr>
          <p:spPr>
            <a:xfrm>
              <a:off x="5257800" y="4267080"/>
              <a:ext cx="15264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486400" y="4267080"/>
              <a:ext cx="15264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81840" y="4343400"/>
              <a:ext cx="53316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391520" y="41148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562720" y="41148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V="1">
              <a:off x="7391520" y="388584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V="1">
              <a:off x="5562720" y="38858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562720" y="3886200"/>
              <a:ext cx="182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105520" y="4038480"/>
              <a:ext cx="5335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8001000" y="5334120"/>
              <a:ext cx="53352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019920" y="5334120"/>
              <a:ext cx="53352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858000" y="5257800"/>
              <a:ext cx="15264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629400" y="502920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629400" y="5334120"/>
              <a:ext cx="53352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467840" y="5257800"/>
              <a:ext cx="15228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239240" y="5029200"/>
              <a:ext cx="533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2" name=""/>
            <p:cNvGrpSpPr/>
            <p:nvPr/>
          </p:nvGrpSpPr>
          <p:grpSpPr>
            <a:xfrm>
              <a:off x="7562880" y="5073480"/>
              <a:ext cx="228600" cy="152280"/>
              <a:chOff x="7562880" y="5073480"/>
              <a:chExt cx="228600" cy="152280"/>
            </a:xfrm>
          </p:grpSpPr>
          <p:sp>
            <p:nvSpPr>
              <p:cNvPr id="453" name=""/>
              <p:cNvSpPr/>
              <p:nvPr/>
            </p:nvSpPr>
            <p:spPr>
              <a:xfrm>
                <a:off x="7594560" y="507348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7562880" y="514944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5" name=""/>
            <p:cNvSpPr/>
            <p:nvPr/>
          </p:nvSpPr>
          <p:spPr>
            <a:xfrm>
              <a:off x="7239240" y="5334120"/>
              <a:ext cx="53316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715000" y="4495680"/>
              <a:ext cx="1526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867640" y="44956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867640" y="4876920"/>
              <a:ext cx="19810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848720" y="48769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848720" y="54100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181840" y="571500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ZONES 3 and 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2" name=""/>
          <p:cNvGrpSpPr/>
          <p:nvPr/>
        </p:nvGrpSpPr>
        <p:grpSpPr>
          <a:xfrm>
            <a:off x="838080" y="762120"/>
            <a:ext cx="533520" cy="457200"/>
            <a:chOff x="838080" y="762120"/>
            <a:chExt cx="533520" cy="457200"/>
          </a:xfrm>
        </p:grpSpPr>
        <p:sp>
          <p:nvSpPr>
            <p:cNvPr id="463" name=""/>
            <p:cNvSpPr/>
            <p:nvPr/>
          </p:nvSpPr>
          <p:spPr>
            <a:xfrm>
              <a:off x="990720" y="990720"/>
              <a:ext cx="15228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38080" y="762120"/>
              <a:ext cx="5335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5" name=""/>
          <p:cNvGrpSpPr/>
          <p:nvPr/>
        </p:nvGrpSpPr>
        <p:grpSpPr>
          <a:xfrm>
            <a:off x="1447920" y="762120"/>
            <a:ext cx="552240" cy="457200"/>
            <a:chOff x="1447920" y="762120"/>
            <a:chExt cx="552240" cy="457200"/>
          </a:xfrm>
        </p:grpSpPr>
        <p:sp>
          <p:nvSpPr>
            <p:cNvPr id="466" name=""/>
            <p:cNvSpPr/>
            <p:nvPr/>
          </p:nvSpPr>
          <p:spPr>
            <a:xfrm>
              <a:off x="1676520" y="990720"/>
              <a:ext cx="15228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447920" y="762120"/>
              <a:ext cx="533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8" name=""/>
            <p:cNvGrpSpPr/>
            <p:nvPr/>
          </p:nvGrpSpPr>
          <p:grpSpPr>
            <a:xfrm>
              <a:off x="1771560" y="806400"/>
              <a:ext cx="228600" cy="152280"/>
              <a:chOff x="1771560" y="806400"/>
              <a:chExt cx="228600" cy="152280"/>
            </a:xfrm>
          </p:grpSpPr>
          <p:sp>
            <p:nvSpPr>
              <p:cNvPr id="469" name=""/>
              <p:cNvSpPr/>
              <p:nvPr/>
            </p:nvSpPr>
            <p:spPr>
              <a:xfrm>
                <a:off x="1803240" y="80640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1771560" y="88236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71" name=""/>
          <p:cNvSpPr/>
          <p:nvPr/>
        </p:nvSpPr>
        <p:spPr>
          <a:xfrm>
            <a:off x="2133720" y="99072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905120" y="762120"/>
            <a:ext cx="533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3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3" name=""/>
          <p:cNvGrpSpPr/>
          <p:nvPr/>
        </p:nvGrpSpPr>
        <p:grpSpPr>
          <a:xfrm>
            <a:off x="2228760" y="806400"/>
            <a:ext cx="228600" cy="152280"/>
            <a:chOff x="2228760" y="806400"/>
            <a:chExt cx="228600" cy="152280"/>
          </a:xfrm>
        </p:grpSpPr>
        <p:sp>
          <p:nvSpPr>
            <p:cNvPr id="474" name=""/>
            <p:cNvSpPr/>
            <p:nvPr/>
          </p:nvSpPr>
          <p:spPr>
            <a:xfrm>
              <a:off x="2260440" y="8064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228760" y="8823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6" name=""/>
          <p:cNvSpPr/>
          <p:nvPr/>
        </p:nvSpPr>
        <p:spPr>
          <a:xfrm>
            <a:off x="1295280" y="12193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7" name=""/>
          <p:cNvGrpSpPr/>
          <p:nvPr/>
        </p:nvGrpSpPr>
        <p:grpSpPr>
          <a:xfrm>
            <a:off x="838080" y="1066680"/>
            <a:ext cx="1600200" cy="304920"/>
            <a:chOff x="838080" y="1066680"/>
            <a:chExt cx="1600200" cy="304920"/>
          </a:xfrm>
        </p:grpSpPr>
        <p:sp>
          <p:nvSpPr>
            <p:cNvPr id="478" name=""/>
            <p:cNvSpPr/>
            <p:nvPr/>
          </p:nvSpPr>
          <p:spPr>
            <a:xfrm>
              <a:off x="1600200" y="1066680"/>
              <a:ext cx="8380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838080" y="1066680"/>
              <a:ext cx="5335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0" name=""/>
          <p:cNvGrpSpPr/>
          <p:nvPr/>
        </p:nvGrpSpPr>
        <p:grpSpPr>
          <a:xfrm>
            <a:off x="533520" y="1219320"/>
            <a:ext cx="2209680" cy="457200"/>
            <a:chOff x="533520" y="1219320"/>
            <a:chExt cx="2209680" cy="457200"/>
          </a:xfrm>
        </p:grpSpPr>
        <p:grpSp>
          <p:nvGrpSpPr>
            <p:cNvPr id="481" name=""/>
            <p:cNvGrpSpPr/>
            <p:nvPr/>
          </p:nvGrpSpPr>
          <p:grpSpPr>
            <a:xfrm>
              <a:off x="533520" y="1219320"/>
              <a:ext cx="2209680" cy="457200"/>
              <a:chOff x="533520" y="1219320"/>
              <a:chExt cx="2209680" cy="457200"/>
            </a:xfrm>
          </p:grpSpPr>
          <p:sp>
            <p:nvSpPr>
              <p:cNvPr id="482" name=""/>
              <p:cNvSpPr/>
              <p:nvPr/>
            </p:nvSpPr>
            <p:spPr>
              <a:xfrm flipH="1">
                <a:off x="533520" y="1219320"/>
                <a:ext cx="30456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533520" y="1219320"/>
                <a:ext cx="0" cy="45720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533520" y="1676520"/>
                <a:ext cx="220968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 flipV="1">
                <a:off x="2743200" y="1219320"/>
                <a:ext cx="0" cy="45720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6" name=""/>
            <p:cNvSpPr/>
            <p:nvPr/>
          </p:nvSpPr>
          <p:spPr>
            <a:xfrm flipH="1">
              <a:off x="2437920" y="1219320"/>
              <a:ext cx="30492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3505320" y="762120"/>
            <a:ext cx="552240" cy="457200"/>
            <a:chOff x="3505320" y="762120"/>
            <a:chExt cx="552240" cy="457200"/>
          </a:xfrm>
        </p:grpSpPr>
        <p:sp>
          <p:nvSpPr>
            <p:cNvPr id="488" name=""/>
            <p:cNvSpPr/>
            <p:nvPr/>
          </p:nvSpPr>
          <p:spPr>
            <a:xfrm>
              <a:off x="3733920" y="990720"/>
              <a:ext cx="15228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505320" y="762120"/>
              <a:ext cx="533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0" name=""/>
            <p:cNvGrpSpPr/>
            <p:nvPr/>
          </p:nvGrpSpPr>
          <p:grpSpPr>
            <a:xfrm>
              <a:off x="3828960" y="806400"/>
              <a:ext cx="228600" cy="152280"/>
              <a:chOff x="3828960" y="806400"/>
              <a:chExt cx="228600" cy="152280"/>
            </a:xfrm>
          </p:grpSpPr>
          <p:sp>
            <p:nvSpPr>
              <p:cNvPr id="491" name=""/>
              <p:cNvSpPr/>
              <p:nvPr/>
            </p:nvSpPr>
            <p:spPr>
              <a:xfrm>
                <a:off x="3860640" y="80640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3828960" y="88236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93" name=""/>
          <p:cNvGrpSpPr/>
          <p:nvPr/>
        </p:nvGrpSpPr>
        <p:grpSpPr>
          <a:xfrm>
            <a:off x="5105520" y="762120"/>
            <a:ext cx="533160" cy="457200"/>
            <a:chOff x="5105520" y="762120"/>
            <a:chExt cx="533160" cy="457200"/>
          </a:xfrm>
        </p:grpSpPr>
        <p:sp>
          <p:nvSpPr>
            <p:cNvPr id="494" name=""/>
            <p:cNvSpPr/>
            <p:nvPr/>
          </p:nvSpPr>
          <p:spPr>
            <a:xfrm>
              <a:off x="5257800" y="990720"/>
              <a:ext cx="15192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105520" y="762120"/>
              <a:ext cx="533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B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6" name=""/>
          <p:cNvGrpSpPr/>
          <p:nvPr/>
        </p:nvGrpSpPr>
        <p:grpSpPr>
          <a:xfrm>
            <a:off x="3505320" y="1219320"/>
            <a:ext cx="2209680" cy="457200"/>
            <a:chOff x="3505320" y="1219320"/>
            <a:chExt cx="2209680" cy="457200"/>
          </a:xfrm>
        </p:grpSpPr>
        <p:grpSp>
          <p:nvGrpSpPr>
            <p:cNvPr id="497" name=""/>
            <p:cNvGrpSpPr/>
            <p:nvPr/>
          </p:nvGrpSpPr>
          <p:grpSpPr>
            <a:xfrm>
              <a:off x="3505320" y="1219320"/>
              <a:ext cx="2209680" cy="457200"/>
              <a:chOff x="3505320" y="1219320"/>
              <a:chExt cx="2209680" cy="457200"/>
            </a:xfrm>
          </p:grpSpPr>
          <p:sp>
            <p:nvSpPr>
              <p:cNvPr id="498" name=""/>
              <p:cNvSpPr/>
              <p:nvPr/>
            </p:nvSpPr>
            <p:spPr>
              <a:xfrm flipH="1">
                <a:off x="3505320" y="1219320"/>
                <a:ext cx="30456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3505320" y="1219320"/>
                <a:ext cx="0" cy="45720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3505320" y="1676520"/>
                <a:ext cx="220968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 flipV="1">
                <a:off x="5715000" y="1219320"/>
                <a:ext cx="0" cy="45720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2" name=""/>
            <p:cNvSpPr/>
            <p:nvPr/>
          </p:nvSpPr>
          <p:spPr>
            <a:xfrm flipH="1">
              <a:off x="5409720" y="1219320"/>
              <a:ext cx="30492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3" name=""/>
          <p:cNvSpPr/>
          <p:nvPr/>
        </p:nvSpPr>
        <p:spPr>
          <a:xfrm>
            <a:off x="3581280" y="106668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105520" y="1066680"/>
            <a:ext cx="5331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648320" y="99072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419720" y="990720"/>
            <a:ext cx="15228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4343400" y="106668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400800" y="990720"/>
            <a:ext cx="15228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477120" y="609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724280" y="609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4724280" y="60948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flipV="1">
            <a:off x="4495680" y="6091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 flipH="1">
            <a:off x="2743200" y="6094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 flipH="1">
            <a:off x="2362320" y="609480"/>
            <a:ext cx="38088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5" name=""/>
          <p:cNvGrpSpPr/>
          <p:nvPr/>
        </p:nvGrpSpPr>
        <p:grpSpPr>
          <a:xfrm>
            <a:off x="3809880" y="1828800"/>
            <a:ext cx="2819520" cy="990720"/>
            <a:chOff x="3809880" y="1828800"/>
            <a:chExt cx="2819520" cy="990720"/>
          </a:xfrm>
        </p:grpSpPr>
        <p:sp>
          <p:nvSpPr>
            <p:cNvPr id="516" name=""/>
            <p:cNvSpPr/>
            <p:nvPr/>
          </p:nvSpPr>
          <p:spPr>
            <a:xfrm>
              <a:off x="5867280" y="24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7" name=""/>
            <p:cNvGrpSpPr/>
            <p:nvPr/>
          </p:nvGrpSpPr>
          <p:grpSpPr>
            <a:xfrm>
              <a:off x="6095880" y="1981080"/>
              <a:ext cx="533520" cy="457200"/>
              <a:chOff x="6095880" y="1981080"/>
              <a:chExt cx="533520" cy="457200"/>
            </a:xfrm>
          </p:grpSpPr>
          <p:sp>
            <p:nvSpPr>
              <p:cNvPr id="518" name=""/>
              <p:cNvSpPr/>
              <p:nvPr/>
            </p:nvSpPr>
            <p:spPr>
              <a:xfrm>
                <a:off x="6248520" y="2209680"/>
                <a:ext cx="152280" cy="228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6095880" y="1981080"/>
                <a:ext cx="5335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1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0" name=""/>
            <p:cNvSpPr/>
            <p:nvPr/>
          </p:nvSpPr>
          <p:spPr>
            <a:xfrm>
              <a:off x="6095880" y="2286000"/>
              <a:ext cx="5335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809880" y="2438280"/>
              <a:ext cx="1066680" cy="38124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038480" y="2209680"/>
              <a:ext cx="15228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495680" y="2209680"/>
              <a:ext cx="15228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962160" y="2286000"/>
              <a:ext cx="7621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886200" y="1981080"/>
              <a:ext cx="533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JAI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638680" y="2209680"/>
              <a:ext cx="15228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410080" y="2286000"/>
              <a:ext cx="5335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572000" y="1828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715000" y="1828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4572000" y="182880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1" name=""/>
          <p:cNvSpPr/>
          <p:nvPr/>
        </p:nvSpPr>
        <p:spPr>
          <a:xfrm>
            <a:off x="3276720" y="228600"/>
            <a:ext cx="3962160" cy="312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ON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33520" y="4267080"/>
            <a:ext cx="5331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676520" y="419112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1447920" y="3809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Outside Jai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666880" y="4191120"/>
            <a:ext cx="15264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2438280" y="388620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Par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523880" y="426708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2514600" y="426708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019920" y="1219320"/>
            <a:ext cx="8380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6172200" y="106668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1" name=""/>
          <p:cNvGrpSpPr/>
          <p:nvPr/>
        </p:nvGrpSpPr>
        <p:grpSpPr>
          <a:xfrm>
            <a:off x="533520" y="5029200"/>
            <a:ext cx="533160" cy="457200"/>
            <a:chOff x="533520" y="5029200"/>
            <a:chExt cx="533160" cy="457200"/>
          </a:xfrm>
        </p:grpSpPr>
        <p:sp>
          <p:nvSpPr>
            <p:cNvPr id="542" name=""/>
            <p:cNvSpPr/>
            <p:nvPr/>
          </p:nvSpPr>
          <p:spPr>
            <a:xfrm>
              <a:off x="685800" y="5257800"/>
              <a:ext cx="15192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33520" y="5029200"/>
              <a:ext cx="533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5B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4" name=""/>
          <p:cNvGrpSpPr/>
          <p:nvPr/>
        </p:nvGrpSpPr>
        <p:grpSpPr>
          <a:xfrm>
            <a:off x="1676520" y="5029200"/>
            <a:ext cx="533160" cy="457200"/>
            <a:chOff x="1676520" y="5029200"/>
            <a:chExt cx="533160" cy="457200"/>
          </a:xfrm>
        </p:grpSpPr>
        <p:sp>
          <p:nvSpPr>
            <p:cNvPr id="545" name=""/>
            <p:cNvSpPr/>
            <p:nvPr/>
          </p:nvSpPr>
          <p:spPr>
            <a:xfrm>
              <a:off x="1828800" y="5257800"/>
              <a:ext cx="15192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676520" y="5029200"/>
              <a:ext cx="533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5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7" name=""/>
          <p:cNvSpPr/>
          <p:nvPr/>
        </p:nvSpPr>
        <p:spPr>
          <a:xfrm>
            <a:off x="1600200" y="525780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8" name=""/>
          <p:cNvGrpSpPr/>
          <p:nvPr/>
        </p:nvGrpSpPr>
        <p:grpSpPr>
          <a:xfrm>
            <a:off x="2590920" y="5029200"/>
            <a:ext cx="552240" cy="457200"/>
            <a:chOff x="2590920" y="5029200"/>
            <a:chExt cx="552240" cy="457200"/>
          </a:xfrm>
        </p:grpSpPr>
        <p:sp>
          <p:nvSpPr>
            <p:cNvPr id="549" name=""/>
            <p:cNvSpPr/>
            <p:nvPr/>
          </p:nvSpPr>
          <p:spPr>
            <a:xfrm>
              <a:off x="2819520" y="5257800"/>
              <a:ext cx="15228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590920" y="5029200"/>
              <a:ext cx="533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1" name=""/>
            <p:cNvGrpSpPr/>
            <p:nvPr/>
          </p:nvGrpSpPr>
          <p:grpSpPr>
            <a:xfrm>
              <a:off x="2914560" y="5073480"/>
              <a:ext cx="228600" cy="152280"/>
              <a:chOff x="2914560" y="5073480"/>
              <a:chExt cx="228600" cy="152280"/>
            </a:xfrm>
          </p:grpSpPr>
          <p:sp>
            <p:nvSpPr>
              <p:cNvPr id="552" name=""/>
              <p:cNvSpPr/>
              <p:nvPr/>
            </p:nvSpPr>
            <p:spPr>
              <a:xfrm>
                <a:off x="2946240" y="507348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2914560" y="514944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54" name=""/>
          <p:cNvSpPr/>
          <p:nvPr/>
        </p:nvSpPr>
        <p:spPr>
          <a:xfrm>
            <a:off x="3886200" y="5257800"/>
            <a:ext cx="15228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33520" y="5334120"/>
            <a:ext cx="533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1523880" y="5334120"/>
            <a:ext cx="533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2666880" y="5334120"/>
            <a:ext cx="533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657600" y="5334120"/>
            <a:ext cx="533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4876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962520" y="4876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1676520" y="487692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52280" y="3657600"/>
            <a:ext cx="4496040" cy="274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ZON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3" name=""/>
          <p:cNvGrpSpPr/>
          <p:nvPr/>
        </p:nvGrpSpPr>
        <p:grpSpPr>
          <a:xfrm>
            <a:off x="228600" y="304920"/>
            <a:ext cx="6781680" cy="4190760"/>
            <a:chOff x="228600" y="304920"/>
            <a:chExt cx="6781680" cy="4190760"/>
          </a:xfrm>
        </p:grpSpPr>
        <p:grpSp>
          <p:nvGrpSpPr>
            <p:cNvPr id="564" name=""/>
            <p:cNvGrpSpPr/>
            <p:nvPr/>
          </p:nvGrpSpPr>
          <p:grpSpPr>
            <a:xfrm>
              <a:off x="380880" y="609120"/>
              <a:ext cx="6476760" cy="3428640"/>
              <a:chOff x="380880" y="609120"/>
              <a:chExt cx="6476760" cy="3428640"/>
            </a:xfrm>
          </p:grpSpPr>
          <p:sp>
            <p:nvSpPr>
              <p:cNvPr id="565" name=""/>
              <p:cNvSpPr/>
              <p:nvPr/>
            </p:nvSpPr>
            <p:spPr>
              <a:xfrm>
                <a:off x="1066680" y="1752120"/>
                <a:ext cx="1295280" cy="456840"/>
              </a:xfrm>
              <a:prstGeom prst="rect">
                <a:avLst/>
              </a:prstGeom>
              <a:noFill/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1676160" y="1752120"/>
                <a:ext cx="4419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67" name=""/>
              <p:cNvGrpSpPr/>
              <p:nvPr/>
            </p:nvGrpSpPr>
            <p:grpSpPr>
              <a:xfrm>
                <a:off x="1676160" y="3123720"/>
                <a:ext cx="3657600" cy="761040"/>
                <a:chOff x="1676160" y="3123720"/>
                <a:chExt cx="3657600" cy="761040"/>
              </a:xfrm>
            </p:grpSpPr>
            <p:sp>
              <p:nvSpPr>
                <p:cNvPr id="568" name=""/>
                <p:cNvSpPr/>
                <p:nvPr/>
              </p:nvSpPr>
              <p:spPr>
                <a:xfrm>
                  <a:off x="1904760" y="3732840"/>
                  <a:ext cx="3048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>
                  <a:off x="3581280" y="3504240"/>
                  <a:ext cx="152280" cy="2282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70" name=""/>
                <p:cNvGrpSpPr/>
                <p:nvPr/>
              </p:nvGrpSpPr>
              <p:grpSpPr>
                <a:xfrm>
                  <a:off x="2438280" y="3275640"/>
                  <a:ext cx="552240" cy="456480"/>
                  <a:chOff x="2438280" y="3275640"/>
                  <a:chExt cx="552240" cy="456480"/>
                </a:xfrm>
              </p:grpSpPr>
              <p:sp>
                <p:nvSpPr>
                  <p:cNvPr id="571" name=""/>
                  <p:cNvSpPr/>
                  <p:nvPr/>
                </p:nvSpPr>
                <p:spPr>
                  <a:xfrm>
                    <a:off x="2666880" y="3503880"/>
                    <a:ext cx="152280" cy="228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2" name=""/>
                  <p:cNvSpPr/>
                  <p:nvPr/>
                </p:nvSpPr>
                <p:spPr>
                  <a:xfrm>
                    <a:off x="2438280" y="3275640"/>
                    <a:ext cx="533160" cy="231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6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73" name=""/>
                  <p:cNvGrpSpPr/>
                  <p:nvPr/>
                </p:nvGrpSpPr>
                <p:grpSpPr>
                  <a:xfrm>
                    <a:off x="2761920" y="3319560"/>
                    <a:ext cx="228600" cy="151920"/>
                    <a:chOff x="2761920" y="3319560"/>
                    <a:chExt cx="228600" cy="151920"/>
                  </a:xfrm>
                </p:grpSpPr>
                <p:sp>
                  <p:nvSpPr>
                    <p:cNvPr id="574" name=""/>
                    <p:cNvSpPr/>
                    <p:nvPr/>
                  </p:nvSpPr>
                  <p:spPr>
                    <a:xfrm>
                      <a:off x="2793600" y="3319560"/>
                      <a:ext cx="152640" cy="1519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5" name=""/>
                    <p:cNvSpPr/>
                    <p:nvPr/>
                  </p:nvSpPr>
                  <p:spPr>
                    <a:xfrm>
                      <a:off x="2761920" y="3395160"/>
                      <a:ext cx="2286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576" name=""/>
                <p:cNvSpPr/>
                <p:nvPr/>
              </p:nvSpPr>
              <p:spPr>
                <a:xfrm>
                  <a:off x="2514600" y="3580560"/>
                  <a:ext cx="533160" cy="3042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1676160" y="3580560"/>
                  <a:ext cx="533520" cy="3042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4267080" y="3504240"/>
                  <a:ext cx="152280" cy="2282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>
                  <a:off x="4038480" y="3580560"/>
                  <a:ext cx="533520" cy="3042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3352680" y="3504240"/>
                  <a:ext cx="152280" cy="2282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3276360" y="3580560"/>
                  <a:ext cx="533520" cy="3042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>
                  <a:off x="4800600" y="3580560"/>
                  <a:ext cx="533160" cy="3042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3429000" y="3123720"/>
                  <a:ext cx="0" cy="380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>
                  <a:off x="4343400" y="3123720"/>
                  <a:ext cx="0" cy="380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 flipH="1">
                  <a:off x="3429000" y="3123720"/>
                  <a:ext cx="914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86" name=""/>
              <p:cNvSpPr/>
              <p:nvPr/>
            </p:nvSpPr>
            <p:spPr>
              <a:xfrm>
                <a:off x="5867280" y="1599480"/>
                <a:ext cx="53316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5333760" y="1523520"/>
                <a:ext cx="152280" cy="2282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5105160" y="1599480"/>
                <a:ext cx="53352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4571640" y="1523520"/>
                <a:ext cx="152640" cy="2282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4343040" y="1599480"/>
                <a:ext cx="53352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3962160" y="1523520"/>
                <a:ext cx="152280" cy="2282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92" name=""/>
              <p:cNvGrpSpPr/>
              <p:nvPr/>
            </p:nvGrpSpPr>
            <p:grpSpPr>
              <a:xfrm>
                <a:off x="3428640" y="1294920"/>
                <a:ext cx="533520" cy="456480"/>
                <a:chOff x="3428640" y="1294920"/>
                <a:chExt cx="533520" cy="456480"/>
              </a:xfrm>
            </p:grpSpPr>
            <p:sp>
              <p:nvSpPr>
                <p:cNvPr id="593" name=""/>
                <p:cNvSpPr/>
                <p:nvPr/>
              </p:nvSpPr>
              <p:spPr>
                <a:xfrm>
                  <a:off x="3580920" y="1523160"/>
                  <a:ext cx="152640" cy="2282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3428640" y="1294920"/>
                  <a:ext cx="53352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</a:rPr>
                    <a:t>   </a:t>
                  </a: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</a:rPr>
                    <a:t>8A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95" name=""/>
              <p:cNvSpPr/>
              <p:nvPr/>
            </p:nvSpPr>
            <p:spPr>
              <a:xfrm>
                <a:off x="3581280" y="1599480"/>
                <a:ext cx="53316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3047760" y="1523520"/>
                <a:ext cx="152280" cy="2282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2819160" y="1599480"/>
                <a:ext cx="53352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2285640" y="1523520"/>
                <a:ext cx="152640" cy="2282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1371240" y="1523520"/>
                <a:ext cx="152640" cy="2282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1599840" y="1523520"/>
                <a:ext cx="152640" cy="2282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3657240" y="2742480"/>
                <a:ext cx="0" cy="76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5410080" y="114228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3657240" y="2742480"/>
                <a:ext cx="3200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flipV="1">
                <a:off x="6857640" y="1142280"/>
                <a:ext cx="0" cy="159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flipH="1">
                <a:off x="5409720" y="1142280"/>
                <a:ext cx="1447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4038480" y="114228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3124080" y="114228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3124080" y="114228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4038480" y="114228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3124080" y="114228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1447560" y="114228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2361960" y="114228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1447560" y="114228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flipV="1">
                <a:off x="1676160" y="913320"/>
                <a:ext cx="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1676160" y="91368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2590560" y="913680"/>
                <a:ext cx="45720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2057040" y="1599480"/>
                <a:ext cx="53352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1295280" y="1599480"/>
                <a:ext cx="53316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flipV="1">
                <a:off x="2361960" y="1980720"/>
                <a:ext cx="0" cy="7560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20" name=""/>
              <p:cNvGrpSpPr/>
              <p:nvPr/>
            </p:nvGrpSpPr>
            <p:grpSpPr>
              <a:xfrm>
                <a:off x="1676160" y="3123720"/>
                <a:ext cx="3657600" cy="761040"/>
                <a:chOff x="1676160" y="3123720"/>
                <a:chExt cx="3657600" cy="761040"/>
              </a:xfrm>
            </p:grpSpPr>
            <p:sp>
              <p:nvSpPr>
                <p:cNvPr id="621" name=""/>
                <p:cNvSpPr/>
                <p:nvPr/>
              </p:nvSpPr>
              <p:spPr>
                <a:xfrm>
                  <a:off x="1904760" y="3732840"/>
                  <a:ext cx="3048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3581280" y="3504240"/>
                  <a:ext cx="152280" cy="2282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23" name=""/>
                <p:cNvGrpSpPr/>
                <p:nvPr/>
              </p:nvGrpSpPr>
              <p:grpSpPr>
                <a:xfrm>
                  <a:off x="2438280" y="3275640"/>
                  <a:ext cx="552240" cy="456480"/>
                  <a:chOff x="2438280" y="3275640"/>
                  <a:chExt cx="552240" cy="456480"/>
                </a:xfrm>
              </p:grpSpPr>
              <p:sp>
                <p:nvSpPr>
                  <p:cNvPr id="624" name=""/>
                  <p:cNvSpPr/>
                  <p:nvPr/>
                </p:nvSpPr>
                <p:spPr>
                  <a:xfrm>
                    <a:off x="2666880" y="3503880"/>
                    <a:ext cx="152280" cy="228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5" name=""/>
                  <p:cNvSpPr/>
                  <p:nvPr/>
                </p:nvSpPr>
                <p:spPr>
                  <a:xfrm>
                    <a:off x="2438280" y="3275640"/>
                    <a:ext cx="533160" cy="231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6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26" name=""/>
                  <p:cNvGrpSpPr/>
                  <p:nvPr/>
                </p:nvGrpSpPr>
                <p:grpSpPr>
                  <a:xfrm>
                    <a:off x="2761920" y="3319560"/>
                    <a:ext cx="228600" cy="151920"/>
                    <a:chOff x="2761920" y="3319560"/>
                    <a:chExt cx="228600" cy="151920"/>
                  </a:xfrm>
                </p:grpSpPr>
                <p:sp>
                  <p:nvSpPr>
                    <p:cNvPr id="627" name=""/>
                    <p:cNvSpPr/>
                    <p:nvPr/>
                  </p:nvSpPr>
                  <p:spPr>
                    <a:xfrm>
                      <a:off x="2793600" y="3319560"/>
                      <a:ext cx="152640" cy="1519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8" name=""/>
                    <p:cNvSpPr/>
                    <p:nvPr/>
                  </p:nvSpPr>
                  <p:spPr>
                    <a:xfrm>
                      <a:off x="2761920" y="3395160"/>
                      <a:ext cx="2286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629" name=""/>
                <p:cNvSpPr/>
                <p:nvPr/>
              </p:nvSpPr>
              <p:spPr>
                <a:xfrm>
                  <a:off x="2514600" y="3580560"/>
                  <a:ext cx="533160" cy="3042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>
                  <a:off x="1676160" y="3580560"/>
                  <a:ext cx="533520" cy="3042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4267080" y="3504240"/>
                  <a:ext cx="152280" cy="2282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>
                  <a:off x="4038480" y="3580560"/>
                  <a:ext cx="533520" cy="3042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>
                  <a:off x="3352680" y="3504240"/>
                  <a:ext cx="152280" cy="2282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3276360" y="3580560"/>
                  <a:ext cx="533520" cy="3042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>
                  <a:off x="4800600" y="3580560"/>
                  <a:ext cx="533160" cy="3042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>
                  <a:off x="3429000" y="3123720"/>
                  <a:ext cx="0" cy="380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4343400" y="3123720"/>
                  <a:ext cx="0" cy="380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 flipH="1">
                  <a:off x="3429000" y="3123720"/>
                  <a:ext cx="914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39" name=""/>
              <p:cNvSpPr/>
              <p:nvPr/>
            </p:nvSpPr>
            <p:spPr>
              <a:xfrm flipV="1">
                <a:off x="4647960" y="609120"/>
                <a:ext cx="0" cy="91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flipH="1">
                <a:off x="837720" y="609480"/>
                <a:ext cx="3809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flipV="1">
                <a:off x="838080" y="609480"/>
                <a:ext cx="0" cy="281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761760" y="3504600"/>
                <a:ext cx="152280" cy="2282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380880" y="3733200"/>
                <a:ext cx="838080" cy="304560"/>
              </a:xfrm>
              <a:prstGeom prst="rect">
                <a:avLst/>
              </a:prstGeom>
              <a:noFill/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533160" y="3580920"/>
                <a:ext cx="533520" cy="304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flipV="1">
                <a:off x="914040" y="2513520"/>
                <a:ext cx="2514600" cy="91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3428640" y="2513880"/>
                <a:ext cx="152640" cy="91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7" name=""/>
            <p:cNvSpPr/>
            <p:nvPr/>
          </p:nvSpPr>
          <p:spPr>
            <a:xfrm>
              <a:off x="228600" y="304920"/>
              <a:ext cx="6781680" cy="4190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ZONE 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6324480" y="5105520"/>
            <a:ext cx="2362320" cy="761760"/>
            <a:chOff x="6324480" y="5105520"/>
            <a:chExt cx="2362320" cy="761760"/>
          </a:xfrm>
        </p:grpSpPr>
        <p:sp>
          <p:nvSpPr>
            <p:cNvPr id="649" name=""/>
            <p:cNvSpPr/>
            <p:nvPr/>
          </p:nvSpPr>
          <p:spPr>
            <a:xfrm>
              <a:off x="6629400" y="5715000"/>
              <a:ext cx="182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6324480" y="5562720"/>
              <a:ext cx="53352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8153280" y="5562720"/>
              <a:ext cx="53352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7010280" y="5486400"/>
              <a:ext cx="15264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7543800" y="5486400"/>
              <a:ext cx="15228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7924680" y="5486400"/>
              <a:ext cx="15264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7543800" y="5562720"/>
              <a:ext cx="53352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6934320" y="5562720"/>
              <a:ext cx="53316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7772400" y="525780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8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620120" y="51055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086600" y="51055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7086600" y="51055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1" name=""/>
          <p:cNvGrpSpPr/>
          <p:nvPr/>
        </p:nvGrpSpPr>
        <p:grpSpPr>
          <a:xfrm>
            <a:off x="304920" y="4648320"/>
            <a:ext cx="3352320" cy="1828800"/>
            <a:chOff x="304920" y="4648320"/>
            <a:chExt cx="3352320" cy="1828800"/>
          </a:xfrm>
        </p:grpSpPr>
        <p:sp>
          <p:nvSpPr>
            <p:cNvPr id="662" name=""/>
            <p:cNvSpPr/>
            <p:nvPr/>
          </p:nvSpPr>
          <p:spPr>
            <a:xfrm>
              <a:off x="304920" y="6172200"/>
              <a:ext cx="1523880" cy="30492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838080" y="61722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057400" y="6172200"/>
              <a:ext cx="1523880" cy="30492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09480" y="5943600"/>
              <a:ext cx="15264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1371600" y="5943600"/>
              <a:ext cx="15228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2438280" y="5943600"/>
              <a:ext cx="15264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209680" y="571500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7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3124080" y="5943600"/>
              <a:ext cx="15264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457200" y="6019920"/>
              <a:ext cx="5335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1143000" y="6019920"/>
              <a:ext cx="5335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3200400" y="55627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1447920" y="55627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685800" y="4648320"/>
              <a:ext cx="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1447920" y="556272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6" name=""/>
            <p:cNvGrpSpPr/>
            <p:nvPr/>
          </p:nvGrpSpPr>
          <p:grpSpPr>
            <a:xfrm>
              <a:off x="1066680" y="4800600"/>
              <a:ext cx="2590560" cy="609480"/>
              <a:chOff x="1066680" y="4800600"/>
              <a:chExt cx="2590560" cy="609480"/>
            </a:xfrm>
          </p:grpSpPr>
          <p:sp>
            <p:nvSpPr>
              <p:cNvPr id="677" name=""/>
              <p:cNvSpPr/>
              <p:nvPr/>
            </p:nvSpPr>
            <p:spPr>
              <a:xfrm>
                <a:off x="1447560" y="5257800"/>
                <a:ext cx="2057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1066680" y="5105160"/>
                <a:ext cx="53316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3124080" y="5105160"/>
                <a:ext cx="53316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2819160" y="5029200"/>
                <a:ext cx="152280" cy="228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2590560" y="4800600"/>
                <a:ext cx="533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7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1981080" y="5029200"/>
                <a:ext cx="152280" cy="228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1752480" y="4800600"/>
                <a:ext cx="533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7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1752480" y="5105160"/>
                <a:ext cx="53316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2438280" y="5029200"/>
                <a:ext cx="152280" cy="228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2438280" y="5105160"/>
                <a:ext cx="53316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7" name=""/>
            <p:cNvSpPr/>
            <p:nvPr/>
          </p:nvSpPr>
          <p:spPr>
            <a:xfrm>
              <a:off x="2514600" y="46483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 flipH="1">
              <a:off x="685800" y="4648320"/>
              <a:ext cx="182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438280" y="61722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209680" y="6019920"/>
              <a:ext cx="5335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895480" y="6019920"/>
              <a:ext cx="5335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2" name=""/>
          <p:cNvSpPr/>
          <p:nvPr/>
        </p:nvSpPr>
        <p:spPr>
          <a:xfrm>
            <a:off x="3962520" y="5105520"/>
            <a:ext cx="198108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ft is ZONE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ght is ZONE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0T15:53:16Z</dcterms:created>
  <dc:creator>Wai K Lim</dc:creator>
  <dc:description/>
  <dc:language>en-US</dc:language>
  <cp:lastModifiedBy>Wai K Lim</cp:lastModifiedBy>
  <dcterms:modified xsi:type="dcterms:W3CDTF">2003-03-11T03:57:36Z</dcterms:modified>
  <cp:revision>180</cp:revision>
  <dc:subject/>
  <dc:title>No Slide Title</dc:title>
</cp:coreProperties>
</file>