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096F-DD4E-4829-A178-82B2B5B31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C338-3B27-40A1-8E55-E8B512A90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7488-77CE-4DAC-84C3-FA91E6E07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8E60-E616-452A-862F-AB8F7CAE7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FC79D-1522-468E-A77E-84BB4CBCA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9166A-0FEC-4D10-A137-C2257787F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97C82-1193-40EE-B73A-3BE76B84D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5BC64-D635-4005-83B4-327439FDE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B9404-05F5-4E97-A5CE-A6B1CB0F2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554D1-D658-48F7-A128-17B168D90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3296E-A333-4F1A-8999-1334BF1FF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5D3C-D7D9-42F0-82FC-F4E25BEB5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45F71-BB5A-4F02-8D19-F713DEC5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3AB8B-A9E5-4696-A186-DAC0F901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DB0FF-2E25-4ED3-9F2A-D2AD67E4B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14015-CA44-4CEF-9331-0E1C528B1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5C2A7-C892-4E15-87B6-D11CAF1D7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26CA-5B18-43F2-BE69-B5188A352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368D-8F60-4E34-8AA4-218E44BED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5D4F-9B8A-41A0-9010-55BB39423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8A71-2724-4F07-A666-6FDAAA414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4DBA-0996-4E6B-ACA1-73E9E2839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074A-2EE4-4E71-A16A-53D12981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7436-9D2E-4ED3-8E14-739CE270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2C3BB-801C-454D-ACB6-E30DD91043C5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10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CD7F3-9318-4B9E-97EF-882F3626574B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Creación de intros 4k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Jorge “slack” Gorb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Bernat “shash” Muñoz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46512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ecff"/>
                </a:solidFill>
                <a:latin typeface="Verdana"/>
              </a:rPr>
              <a:t>Crear la ventana usando una clase ya existente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323640" y="2781000"/>
            <a:ext cx="83516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la clase “EDIT” que ya está registrad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No usar el parámetro de la instanc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hWnd = CreateWindow("EDIT","EDIT"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WS_POPUP|WS_VISIBLE,0,0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width,height,0,0,0,0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46512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ecff"/>
                </a:solidFill>
                <a:latin typeface="Verdana"/>
              </a:rPr>
              <a:t>Generar todo el sonido durante el loading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323640" y="2349360"/>
            <a:ext cx="8351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emos sintetizador o módulo, podemos pregenerar toda la ond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Desventaj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Loading muy larg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nsumo masivo de memori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Ventaj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No necesitamos usar un thre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Toda la reproduccion de audio se reduce a una llamada a PlaySound(...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Bucle principal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323640" y="2349360"/>
            <a:ext cx="8351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omo no usamos una clase, no tenemos el WndProc (...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saremos mensaj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n bucle principal seria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while (!GetAsyncKeyState(VK_ESCAPE)) // Salimos con ES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RenderIntro (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Compresores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23640" y="2349000"/>
            <a:ext cx="83516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Solo vale la pena usar Crinkl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Programado pensando en 4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ejor compres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ejor compatibilid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uy lento para comprimi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Usa muchisima memoria al descomprimi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Necesidad de aprender como comprim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Tecnicas para VisualC 2003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36000" y="2349360"/>
            <a:ext cx="9107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Al quitar las librerías estándar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Tenemos que definir fltused si usamos la FP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extern "C" _fltused = 1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l WinMain cambia por WinMainCRTStart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extern "C" __declspec(noreturn) void WinMainCRTStartup(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Tenemos que definir nuestro propio fto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Tecnicas para VisualC 2003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36000" y="2349360"/>
            <a:ext cx="9107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Opciones de compilació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fastcall como formato de función estandar (No siempre comprime mejor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enerar código con optimización por Velocidad o Complet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optimizaciones globa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n la generación de código, deshabilitar “Comprobación de seguridad de buffer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Intros 4k en Linux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similares a las de Window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Reducir el número de 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imports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 al mínimo (incluyendo la libc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scribir código 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compressor-friendl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Gzip-dropp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rucos específic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Funciones built-in (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intrinsics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arga de libs dinámicas “a mano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sstrip (optimización de cabeceras ELF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libc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–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nostartfiles: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elimina el código de inicialización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Nuevo punto de entrada: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_start()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. 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Debemos llamar a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exit()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al fina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–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nostdlib: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evitamos enlazar con la libc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mo ya no tenemos exit(), debemos definir uno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ourier New"/>
              </a:rPr>
              <a:t>#define exit(code) \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ourier New"/>
              </a:rPr>
              <a:t>asm(“int $0x80;”::”a”(1),”b”(code))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Gzip-dropp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gual que el CAB-dropping en Windows. Aprovechamos que gzip está incluido en el sistema base de cualquier distribució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#Tamaño del unpacker: 56 bytes :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a=/tmp/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tail –n+7 $0|zcat&gt;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chmod +x 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rm 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exi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[ejecutable original “gzippeado”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GCC Built-i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Versiones in-line optimizadas de funciones habitual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Por ejemplo: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sinf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cosf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memset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 ..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jemplo de uso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float x = __builtin_sinf(angle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-ffast-math !!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Útiles para los que no dominamos el ASM ;-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22000" y="260280"/>
            <a:ext cx="82263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Qué explicaremo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Dificultades al crear una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específicas de Window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específicas de Linux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generales a todas las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Opciones de compila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Optimización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1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2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3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: velocid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s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: tamañ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A veces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–O</a:t>
            </a:r>
            <a:r>
              <a:rPr b="0" i="1" lang="es-ES" sz="2400" spc="-1" strike="noStrike">
                <a:solidFill>
                  <a:srgbClr val="eaeaea"/>
                </a:solidFill>
                <a:latin typeface="Courier New"/>
              </a:rPr>
              <a:t>n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genera código más pequeño (o más compresibl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fastcalls” con gcc: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__attribute__((regparm(n))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Hay una serie de flags que producen resultados poco predecibles al comprimir </a:t>
            </a:r>
            <a:r>
              <a:rPr b="0" lang="es-E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i="1" lang="es-ES" sz="2400" spc="-1" strike="noStrike">
                <a:solidFill>
                  <a:srgbClr val="eaeaea"/>
                </a:solidFill>
                <a:latin typeface="Verdana"/>
              </a:rPr>
              <a:t>brute-forcing 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n “gc masher”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Probando versiones diferentes de GCC te puedes llevar alguna sorpresa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Carga de libs dinámic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Las secciones necesarias en la cabecera ELF para importar funciones de libs dinámicas son demasiado grand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Podemos usar dlopen() y dlsym() para cargarlas nosotros mismos en tiempo de ejecució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void *handle=dlopen(“libGL.so”, RTLD_NOW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mi_glEnable = dlsym(handle, “glEnable”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SD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cluida en la instalación básica de la mayor parte de distribuciones (estándar de facto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Nos permite crear intros portables con un poco de cuidado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: openG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2636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Objetivo: reducir el número de </a:t>
            </a:r>
            <a:r>
              <a:rPr b="0" i="1" lang="es-ES" sz="3200" spc="-1" strike="noStrike">
                <a:solidFill>
                  <a:srgbClr val="eaeaea"/>
                </a:solidFill>
                <a:latin typeface="Verdana"/>
              </a:rPr>
              <a:t>imports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y llamada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hacer </a:t>
            </a:r>
            <a:r>
              <a:rPr b="0" i="1" lang="es-ES" sz="3200" spc="-1" strike="noStrike">
                <a:solidFill>
                  <a:srgbClr val="eaeaea"/>
                </a:solidFill>
                <a:latin typeface="Verdana"/>
              </a:rPr>
              <a:t>backface culll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Enable(GL_CULL_FACE)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tilizar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GenTextures glGenLists.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Gestiona tú mismo los ID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sar coordenadas de textura: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TexGen*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: openG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68000" y="285228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i sólo usamos una textura, podemos usar el ID 0 sin hacer un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BindTextu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i no usamos mipmaps solo hay que definir el modo de filtrado para GL_MIN_FILT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Reutilizar cada efecto todo lo que se pueda (si puedes usar solo uno mejor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hacer casts (si no es necesario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Usar inline para las funciones que sólo se llaman una vez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A veces puede interesar reemplazar parámetros de funciones con variables global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utilizar variables para todo aquello que sea constant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repetir cálculos complejos parecid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s conveniente igualar constantes con valores parecidos (mejora la compresión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79280" y="2133720"/>
            <a:ext cx="87854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Links interesantes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Código Etram: 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collapse.scenesp.org/shash/clp_etram_src.rar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eaeaea"/>
                </a:solidFill>
                <a:latin typeface="Arial"/>
              </a:rPr>
              <a:t>Código 4ks en linux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slack.codemaniacs.com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Homepage de Fit (más fuentes de 4k en linux)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4k intro kit: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www.northerndragons.ca/mod.php?mod=userpage&amp;menu=2227&amp;page_id=76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Hugi Coding Edition:</a:t>
            </a:r>
            <a:r>
              <a:rPr b="0" i="1" lang="es-ES" sz="2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www.hugi.scene.org/main.php?page=hugise01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000" y="2852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ccecff"/>
                </a:solidFill>
                <a:latin typeface="Arial"/>
              </a:rPr>
              <a:t>Preguntas?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822636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Hablad ahora, o callad para siempre !!!o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(o buscadnos en #demoscene en irc-hispano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22000" y="260280"/>
            <a:ext cx="82263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Qué no explicaremo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ntros 100% ensamblad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omo programar intros desde cer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reación de sintetizadores o similar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Direct3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Otras muchas cosas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Dificultades al crear un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92000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existen herramientas comerciales adecuad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existen soluciones direct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ecesitamos crear todos los contenidos pensando en la limitación de 4 kb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Contenidos orientados 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68360" y="2565360"/>
            <a:ext cx="842472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podemos tratar los datos como en una dem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ualquier contenido no generado, ocuparía demasiad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En dos palabras: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GENERAR TOD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ráficos 2D/3D, música, hasta sincro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Programación orientada 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92000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ar ensamblad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ás control sobre el códig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enos productiv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Difícil de optimizar globalm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anar a un compilador es difíci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écnicas específicas de Window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Inicialización de la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Bucle principa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o del visualC para ejecutables pequeñ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Inicialización de l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55640" y="2781000"/>
            <a:ext cx="79200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étodo estándar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y registrar una clas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nuestra ventan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el thread de sonid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openG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Inicialización de l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323640" y="2781000"/>
            <a:ext cx="83516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étodo para intros de 4k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la ventana usando una clase ya exist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enerar todo el sonido durante el load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openG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23:19:00Z</dcterms:created>
  <dc:creator>shash_prt</dc:creator>
  <dc:description/>
  <dc:language>en-US</dc:language>
  <cp:lastModifiedBy>shash_prt</cp:lastModifiedBy>
  <dcterms:modified xsi:type="dcterms:W3CDTF">2005-11-07T18:20:17Z</dcterms:modified>
  <cp:revision>8</cp:revision>
  <dc:subject/>
  <dc:title>Creación de intros 4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96765827</vt:r8>
  </property>
</Properties>
</file>