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AF5-43AC-4734-ADBF-2910F57C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D49-BB11-4A78-862E-4E36F303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FF7-D0E0-413A-84DB-0B8B7D82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5AB0-7236-4837-BAE9-A8D5D65A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401-DF17-48B7-9C1F-7FDA1412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9EC-47CD-4777-85F5-87149DDB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B87-8A97-414A-94FA-D5A8784C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411F-23C9-4988-87C0-94D4160E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70DE-6D83-43D3-A7B7-D4F64EDA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504-A2B2-4E05-AA55-543A2830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405-C822-4B8A-A1EB-40B09F1F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CCFD-5C01-4822-8E08-BD5F559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F5841B-A9E6-401E-B85D-41EA68983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16:11:19Z</dcterms:created>
  <dc:creator>tester </dc:creator>
  <dc:description/>
  <dc:language>en-US</dc:language>
  <cp:lastModifiedBy/>
  <cp:revision>0</cp:revision>
  <dc:subject/>
  <dc:title/>
</cp:coreProperties>
</file>