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0C87-F81E-46AC-94C0-1536A071F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0AF0-5284-472A-BD27-45A7F977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1471-CADB-4F9F-B9B8-5898CCB3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95C2-080C-4BE5-B4FA-26782F7E0B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419F9-5F1A-48A6-9EB9-9DC09679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14691-E897-4A8D-B5F3-D9BBE649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E60DC-5B30-4B14-9989-579ADF5A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258FE-D6F9-4AB9-87CE-30575373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B8312-6CC1-4FB7-8046-AFC4E4DB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F088C-C865-48CD-8959-90B65C49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02F28-7B3D-4EF2-B6C8-5053F908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F326-16BB-4D5D-A82B-5E296DEB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BAD56-8C18-4C9D-8286-809B5A8C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0C823-E79A-4F9F-8DD5-668A07F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3454E-C993-4649-9115-390A16AD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C5123-7FFD-4B73-80E3-6207BEA8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328E7-D691-456C-B635-A89868A0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BDEC-8D43-4FF6-8CBD-0570E700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5F54D-9362-424C-9D54-7A81350C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F0B5-3209-47F4-8907-393E4C90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5B40-81DC-4F54-A755-DE38402D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F95A-62F1-44E5-840C-EEDC04B4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FF63-92A4-4D6F-8CD9-5FC528EA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2585-7492-4D3D-8559-A3AAE867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ACCC-851A-44E9-B0EF-4D3C82AF5E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5DE7-CCC0-488C-91EE-3F8FF90EE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ruguay</a:t>
            </a:r>
            <a:endParaRPr b="1" lang="en-US" sz="36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023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7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8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1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2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8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7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1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3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7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9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3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5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9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1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7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3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5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9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5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6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6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4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5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6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80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7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3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2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3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6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8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2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8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0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2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6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8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2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4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8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4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5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5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1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5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95680" y="5334120"/>
            <a:ext cx="17528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43434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8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4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2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5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6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1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02Z</dcterms:modified>
  <cp:revision>563</cp:revision>
  <dc:subject/>
  <dc:title>Michael Capellas</dc:title>
</cp:coreProperties>
</file>